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3FBE-9EA1-4759-BA35-43EBA94C9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FA6B-8E4C-4C19-997D-4B2DD0D73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834F-AB94-4071-BE23-D869F8B23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B0B7-FEDE-4A73-9ED2-F69A9555B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AFAF-50AD-4BA9-990A-2E7D91FF9C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CEC8-C086-4A21-A3E5-88FB459EB2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5387-843E-423C-AFC4-C662435EB1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FB34-20C1-408E-97BF-AF1F75FDB0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CE81-AA3F-43CA-95CC-221134C808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1326-3355-47BA-9186-E637C5795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E995-747D-4AE3-B096-069BAF8ACC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5FCE-DCE4-4F46-9ACB-06AAA1FD2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550C-F4F3-40DD-BF6E-9E124C9E4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5B0A-FAD9-4152-BC0F-5C1C522BD6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2560-C035-4F08-B48D-B4BB04B288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BBA2-370C-4782-A602-48181201B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A730-38C0-403A-8E97-BDB60628BE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3B21-E800-41C5-B4F3-601DF0F70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9F74-C610-4EA3-9406-5C9AB09E89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5489-CF71-4887-85DB-0138FE64E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D617-5098-49E6-825B-8768A534F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4E8A-A537-4C52-8C0E-8BB67B400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2FAE-DB2C-4C12-BE2A-9131C4B55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3E02-A37D-4688-938C-8A7EFDF77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05880" y="655272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2CBF-A95C-48A1-B236-9E9BE03FB82E}" type="slidenum">
              <a:rPr b="0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100000">
              <a:srgbClr val="e9e6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6240" y="8701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4893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63AC-FCCA-43D1-BDF0-54BEAEE0D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656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marL="127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378576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 fontScale="90000"/>
          </a:bodyPr>
          <a:p>
            <a:pPr marL="111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1" marL="11160" indent="-11160" algn="ctr">
              <a:buClr>
                <a:srgbClr val="6666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2" marL="11160" indent="-11160" algn="ctr">
              <a:buClr>
                <a:srgbClr val="6666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3" marL="11160" indent="-11160" algn="ctr">
              <a:buClr>
                <a:srgbClr val="6666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4" marL="11160" indent="-11160" algn="ctr"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5" marL="11160" indent="-11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6" marL="11160" indent="-11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ll Ringer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most important geographic feature to daily life in Ancient Ind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805880" y="6553080"/>
            <a:ext cx="31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928B-9D2B-4A69-86D1-5AB90189A0DE}" type="slidenum">
              <a:rPr b="0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c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9: Diam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10: Hinduism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805880" y="6553080"/>
            <a:ext cx="31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291-BA96-4BCB-BCEC-BEDF187B8CE2}" type="slidenum">
              <a:rPr b="0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Lucida Grande"/>
                <a:ea typeface="Lucida Grande"/>
              </a:rPr>
              <a:t>How did Hinduism begi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No particular fo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dus River Valley Civilization &gt;5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Aryans enter 4000 - 3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Vedic Tradition 3500 – 2500 years a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rituals and many gods (polythe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sacred texts (Ve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social stratification (cast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Grande"/>
                <a:ea typeface="Lucida Grande"/>
              </a:rPr>
              <a:t>Upanishads (metaphysical philosophy) 2800 – 24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dic Tradition develops into Hindu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2"/>
          <a:stretch/>
        </p:blipFill>
        <p:spPr>
          <a:xfrm>
            <a:off x="7696080" y="380880"/>
            <a:ext cx="94320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2483968" presetSubtype="123792896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36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167" name="Freeform 2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400"/>
                  </a:move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  <a:cubicBezTo>
                    <a:pt x="717" y="17250"/>
                    <a:pt x="753" y="3050"/>
                    <a:pt x="0" y="0"/>
                  </a:cubicBezTo>
                  <a:cubicBezTo>
                    <a:pt x="10800" y="0"/>
                    <a:pt x="21600" y="0"/>
                    <a:pt x="21600" y="0"/>
                  </a:cubicBezTo>
                  <a:lnTo>
                    <a:pt x="21600" y="2400"/>
                  </a:lnTo>
                  <a:close/>
                  <a:moveTo>
                    <a:pt x="21600" y="2400"/>
                  </a:moveTo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68" name="Group 87"/>
            <p:cNvGrpSpPr/>
            <p:nvPr/>
          </p:nvGrpSpPr>
          <p:grpSpPr>
            <a:xfrm>
              <a:off x="1897200" y="165240"/>
              <a:ext cx="6031800" cy="681120"/>
              <a:chOff x="1897200" y="165240"/>
              <a:chExt cx="6031800" cy="681120"/>
            </a:xfrm>
          </p:grpSpPr>
          <p:grpSp>
            <p:nvGrpSpPr>
              <p:cNvPr id="169" name="Group 50"/>
              <p:cNvGrpSpPr/>
              <p:nvPr/>
            </p:nvGrpSpPr>
            <p:grpSpPr>
              <a:xfrm>
                <a:off x="1897200" y="166680"/>
                <a:ext cx="3505680" cy="677880"/>
                <a:chOff x="1897200" y="166680"/>
                <a:chExt cx="3505680" cy="677880"/>
              </a:xfrm>
            </p:grpSpPr>
            <p:sp>
              <p:nvSpPr>
                <p:cNvPr id="170" name="Freeform 3"/>
                <p:cNvSpPr/>
                <p:nvPr/>
              </p:nvSpPr>
              <p:spPr>
                <a:xfrm>
                  <a:off x="3641760" y="7621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1" name="Freeform 4"/>
                <p:cNvSpPr/>
                <p:nvPr/>
              </p:nvSpPr>
              <p:spPr>
                <a:xfrm>
                  <a:off x="3327480" y="79200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2" name="Freeform 5"/>
                <p:cNvSpPr/>
                <p:nvPr/>
              </p:nvSpPr>
              <p:spPr>
                <a:xfrm>
                  <a:off x="3279960" y="79056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3" name="Freeform 6"/>
                <p:cNvSpPr/>
                <p:nvPr/>
              </p:nvSpPr>
              <p:spPr>
                <a:xfrm>
                  <a:off x="3030840" y="652320"/>
                  <a:ext cx="237960" cy="14616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4" name="Freeform 7"/>
                <p:cNvSpPr/>
                <p:nvPr/>
              </p:nvSpPr>
              <p:spPr>
                <a:xfrm>
                  <a:off x="3176640" y="642960"/>
                  <a:ext cx="10332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5" name="Freeform 8"/>
                <p:cNvSpPr/>
                <p:nvPr/>
              </p:nvSpPr>
              <p:spPr>
                <a:xfrm>
                  <a:off x="327996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6" name="Freeform 9"/>
                <p:cNvSpPr/>
                <p:nvPr/>
              </p:nvSpPr>
              <p:spPr>
                <a:xfrm>
                  <a:off x="3276720" y="717480"/>
                  <a:ext cx="4464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7" name="Freeform 10"/>
                <p:cNvSpPr/>
                <p:nvPr/>
              </p:nvSpPr>
              <p:spPr>
                <a:xfrm>
                  <a:off x="3362400" y="68724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8" name="Freeform 11"/>
                <p:cNvSpPr/>
                <p:nvPr/>
              </p:nvSpPr>
              <p:spPr>
                <a:xfrm>
                  <a:off x="3368880" y="736560"/>
                  <a:ext cx="31680" cy="1116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9" name="Freeform 12"/>
                <p:cNvSpPr/>
                <p:nvPr/>
              </p:nvSpPr>
              <p:spPr>
                <a:xfrm>
                  <a:off x="3402000" y="7128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0" name="Freeform 13"/>
                <p:cNvSpPr/>
                <p:nvPr/>
              </p:nvSpPr>
              <p:spPr>
                <a:xfrm>
                  <a:off x="3413160" y="725400"/>
                  <a:ext cx="19224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1" name="Freeform 14"/>
                <p:cNvSpPr/>
                <p:nvPr/>
              </p:nvSpPr>
              <p:spPr>
                <a:xfrm>
                  <a:off x="3581640" y="73512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2" name="Freeform 15"/>
                <p:cNvSpPr/>
                <p:nvPr/>
              </p:nvSpPr>
              <p:spPr>
                <a:xfrm>
                  <a:off x="3762720" y="71136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3051" h="21600">
                      <a:moveTo>
                        <a:pt x="1490" y="13745"/>
                      </a:moveTo>
                      <a:cubicBezTo>
                        <a:pt x="-1002" y="5891"/>
                        <a:pt x="-1002" y="2945"/>
                        <a:pt x="6475" y="0"/>
                      </a:cubicBezTo>
                      <a:cubicBezTo>
                        <a:pt x="16444" y="3927"/>
                        <a:pt x="13952" y="15709"/>
                        <a:pt x="6475" y="21600"/>
                      </a:cubicBezTo>
                      <a:cubicBezTo>
                        <a:pt x="-5156" y="16691"/>
                        <a:pt x="5644" y="2945"/>
                        <a:pt x="1490" y="13745"/>
                      </a:cubicBezTo>
                      <a:close/>
                      <a:moveTo>
                        <a:pt x="1490" y="137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3" name="Freeform 16"/>
                <p:cNvSpPr/>
                <p:nvPr/>
              </p:nvSpPr>
              <p:spPr>
                <a:xfrm>
                  <a:off x="330840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4" name="Freeform 17"/>
                <p:cNvSpPr/>
                <p:nvPr/>
              </p:nvSpPr>
              <p:spPr>
                <a:xfrm>
                  <a:off x="3292560" y="523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5" name="Freeform 18"/>
                <p:cNvSpPr/>
                <p:nvPr/>
              </p:nvSpPr>
              <p:spPr>
                <a:xfrm>
                  <a:off x="3308400" y="59040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6" name="Freeform 19"/>
                <p:cNvSpPr/>
                <p:nvPr/>
              </p:nvSpPr>
              <p:spPr>
                <a:xfrm>
                  <a:off x="3262320" y="596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7" name="Freeform 20"/>
                <p:cNvSpPr/>
                <p:nvPr/>
              </p:nvSpPr>
              <p:spPr>
                <a:xfrm>
                  <a:off x="4928040" y="56052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963" y="21523"/>
                      </a:moveTo>
                      <a:cubicBezTo>
                        <a:pt x="1468" y="21600"/>
                        <a:pt x="1146" y="19448"/>
                        <a:pt x="1101" y="19217"/>
                      </a:cubicBezTo>
                      <a:cubicBezTo>
                        <a:pt x="1055" y="19063"/>
                        <a:pt x="1009" y="18833"/>
                        <a:pt x="1009" y="18833"/>
                      </a:cubicBezTo>
                      <a:cubicBezTo>
                        <a:pt x="963" y="18679"/>
                        <a:pt x="917" y="16988"/>
                        <a:pt x="734" y="16757"/>
                      </a:cubicBezTo>
                      <a:cubicBezTo>
                        <a:pt x="596" y="16604"/>
                        <a:pt x="183" y="16527"/>
                        <a:pt x="183" y="16527"/>
                      </a:cubicBezTo>
                      <a:cubicBezTo>
                        <a:pt x="0" y="15912"/>
                        <a:pt x="138" y="15374"/>
                        <a:pt x="0" y="14682"/>
                      </a:cubicBezTo>
                      <a:cubicBezTo>
                        <a:pt x="92" y="14221"/>
                        <a:pt x="321" y="14298"/>
                        <a:pt x="550" y="13836"/>
                      </a:cubicBezTo>
                      <a:cubicBezTo>
                        <a:pt x="642" y="13221"/>
                        <a:pt x="642" y="12991"/>
                        <a:pt x="275" y="12683"/>
                      </a:cubicBezTo>
                      <a:cubicBezTo>
                        <a:pt x="183" y="12530"/>
                        <a:pt x="92" y="12453"/>
                        <a:pt x="92" y="12299"/>
                      </a:cubicBezTo>
                      <a:cubicBezTo>
                        <a:pt x="92" y="11530"/>
                        <a:pt x="734" y="9455"/>
                        <a:pt x="1284" y="9224"/>
                      </a:cubicBezTo>
                      <a:cubicBezTo>
                        <a:pt x="1468" y="8532"/>
                        <a:pt x="1834" y="8071"/>
                        <a:pt x="2018" y="7379"/>
                      </a:cubicBezTo>
                      <a:cubicBezTo>
                        <a:pt x="1789" y="6380"/>
                        <a:pt x="1743" y="6534"/>
                        <a:pt x="1926" y="5381"/>
                      </a:cubicBezTo>
                      <a:cubicBezTo>
                        <a:pt x="1743" y="4612"/>
                        <a:pt x="1559" y="3690"/>
                        <a:pt x="1101" y="3305"/>
                      </a:cubicBezTo>
                      <a:cubicBezTo>
                        <a:pt x="825" y="2767"/>
                        <a:pt x="459" y="2844"/>
                        <a:pt x="917" y="2460"/>
                      </a:cubicBezTo>
                      <a:cubicBezTo>
                        <a:pt x="1238" y="2614"/>
                        <a:pt x="1192" y="2460"/>
                        <a:pt x="1192" y="2767"/>
                      </a:cubicBezTo>
                      <a:cubicBezTo>
                        <a:pt x="1559" y="3152"/>
                        <a:pt x="1789" y="2998"/>
                        <a:pt x="2201" y="2690"/>
                      </a:cubicBezTo>
                      <a:cubicBezTo>
                        <a:pt x="2064" y="1691"/>
                        <a:pt x="2201" y="1076"/>
                        <a:pt x="2935" y="846"/>
                      </a:cubicBezTo>
                      <a:cubicBezTo>
                        <a:pt x="3256" y="615"/>
                        <a:pt x="3439" y="231"/>
                        <a:pt x="3761" y="0"/>
                      </a:cubicBezTo>
                      <a:cubicBezTo>
                        <a:pt x="3852" y="77"/>
                        <a:pt x="4036" y="0"/>
                        <a:pt x="4036" y="154"/>
                      </a:cubicBezTo>
                      <a:cubicBezTo>
                        <a:pt x="4127" y="922"/>
                        <a:pt x="3439" y="999"/>
                        <a:pt x="4219" y="692"/>
                      </a:cubicBezTo>
                      <a:cubicBezTo>
                        <a:pt x="4311" y="615"/>
                        <a:pt x="4403" y="384"/>
                        <a:pt x="4494" y="384"/>
                      </a:cubicBezTo>
                      <a:cubicBezTo>
                        <a:pt x="4678" y="307"/>
                        <a:pt x="4861" y="538"/>
                        <a:pt x="5045" y="615"/>
                      </a:cubicBezTo>
                      <a:cubicBezTo>
                        <a:pt x="5136" y="615"/>
                        <a:pt x="5320" y="692"/>
                        <a:pt x="5320" y="692"/>
                      </a:cubicBezTo>
                      <a:cubicBezTo>
                        <a:pt x="5595" y="1230"/>
                        <a:pt x="5916" y="999"/>
                        <a:pt x="6466" y="1076"/>
                      </a:cubicBezTo>
                      <a:cubicBezTo>
                        <a:pt x="6558" y="1614"/>
                        <a:pt x="6741" y="1691"/>
                        <a:pt x="7108" y="1845"/>
                      </a:cubicBezTo>
                      <a:cubicBezTo>
                        <a:pt x="7292" y="1691"/>
                        <a:pt x="7475" y="1537"/>
                        <a:pt x="7659" y="1307"/>
                      </a:cubicBezTo>
                      <a:cubicBezTo>
                        <a:pt x="7750" y="1230"/>
                        <a:pt x="7934" y="1076"/>
                        <a:pt x="7934" y="1076"/>
                      </a:cubicBezTo>
                      <a:cubicBezTo>
                        <a:pt x="8943" y="1999"/>
                        <a:pt x="8025" y="1537"/>
                        <a:pt x="8943" y="1076"/>
                      </a:cubicBezTo>
                      <a:cubicBezTo>
                        <a:pt x="9493" y="1307"/>
                        <a:pt x="9218" y="1999"/>
                        <a:pt x="9676" y="2460"/>
                      </a:cubicBezTo>
                      <a:cubicBezTo>
                        <a:pt x="9814" y="2921"/>
                        <a:pt x="10273" y="4228"/>
                        <a:pt x="10594" y="4535"/>
                      </a:cubicBezTo>
                      <a:cubicBezTo>
                        <a:pt x="11052" y="5381"/>
                        <a:pt x="10777" y="5150"/>
                        <a:pt x="11236" y="5381"/>
                      </a:cubicBezTo>
                      <a:cubicBezTo>
                        <a:pt x="11419" y="5304"/>
                        <a:pt x="11603" y="5304"/>
                        <a:pt x="11786" y="5227"/>
                      </a:cubicBezTo>
                      <a:cubicBezTo>
                        <a:pt x="11969" y="5150"/>
                        <a:pt x="12382" y="4996"/>
                        <a:pt x="12382" y="4996"/>
                      </a:cubicBezTo>
                      <a:cubicBezTo>
                        <a:pt x="12749" y="5073"/>
                        <a:pt x="12978" y="5150"/>
                        <a:pt x="13299" y="5458"/>
                      </a:cubicBezTo>
                      <a:cubicBezTo>
                        <a:pt x="13941" y="6764"/>
                        <a:pt x="12932" y="4766"/>
                        <a:pt x="13758" y="6226"/>
                      </a:cubicBezTo>
                      <a:cubicBezTo>
                        <a:pt x="13850" y="6457"/>
                        <a:pt x="14125" y="6918"/>
                        <a:pt x="14125" y="6918"/>
                      </a:cubicBezTo>
                      <a:cubicBezTo>
                        <a:pt x="14262" y="7533"/>
                        <a:pt x="14446" y="7917"/>
                        <a:pt x="14583" y="8532"/>
                      </a:cubicBezTo>
                      <a:cubicBezTo>
                        <a:pt x="14629" y="8763"/>
                        <a:pt x="14721" y="8994"/>
                        <a:pt x="14767" y="9224"/>
                      </a:cubicBezTo>
                      <a:cubicBezTo>
                        <a:pt x="14813" y="9378"/>
                        <a:pt x="14859" y="9609"/>
                        <a:pt x="14859" y="9609"/>
                      </a:cubicBezTo>
                      <a:cubicBezTo>
                        <a:pt x="14721" y="10147"/>
                        <a:pt x="14354" y="10300"/>
                        <a:pt x="14217" y="10915"/>
                      </a:cubicBezTo>
                      <a:cubicBezTo>
                        <a:pt x="14354" y="11607"/>
                        <a:pt x="14538" y="11223"/>
                        <a:pt x="14767" y="10838"/>
                      </a:cubicBezTo>
                      <a:cubicBezTo>
                        <a:pt x="15638" y="10992"/>
                        <a:pt x="15546" y="10915"/>
                        <a:pt x="15684" y="11915"/>
                      </a:cubicBezTo>
                      <a:cubicBezTo>
                        <a:pt x="16097" y="11530"/>
                        <a:pt x="16280" y="11684"/>
                        <a:pt x="16693" y="12068"/>
                      </a:cubicBezTo>
                      <a:cubicBezTo>
                        <a:pt x="16922" y="12453"/>
                        <a:pt x="17060" y="12760"/>
                        <a:pt x="17427" y="12914"/>
                      </a:cubicBezTo>
                      <a:cubicBezTo>
                        <a:pt x="17473" y="12991"/>
                        <a:pt x="17564" y="13144"/>
                        <a:pt x="17518" y="13221"/>
                      </a:cubicBezTo>
                      <a:cubicBezTo>
                        <a:pt x="17427" y="13529"/>
                        <a:pt x="16876" y="13221"/>
                        <a:pt x="17518" y="13529"/>
                      </a:cubicBezTo>
                      <a:cubicBezTo>
                        <a:pt x="17702" y="13452"/>
                        <a:pt x="17885" y="13298"/>
                        <a:pt x="18069" y="13221"/>
                      </a:cubicBezTo>
                      <a:cubicBezTo>
                        <a:pt x="18161" y="13221"/>
                        <a:pt x="18344" y="13144"/>
                        <a:pt x="18344" y="13144"/>
                      </a:cubicBezTo>
                      <a:cubicBezTo>
                        <a:pt x="18940" y="13606"/>
                        <a:pt x="19582" y="13759"/>
                        <a:pt x="20132" y="14221"/>
                      </a:cubicBezTo>
                      <a:cubicBezTo>
                        <a:pt x="20224" y="14605"/>
                        <a:pt x="20408" y="14912"/>
                        <a:pt x="20499" y="15297"/>
                      </a:cubicBezTo>
                      <a:cubicBezTo>
                        <a:pt x="20775" y="15220"/>
                        <a:pt x="21096" y="14989"/>
                        <a:pt x="21325" y="15451"/>
                      </a:cubicBezTo>
                      <a:cubicBezTo>
                        <a:pt x="21462" y="15758"/>
                        <a:pt x="21600" y="16527"/>
                        <a:pt x="21600" y="16527"/>
                      </a:cubicBezTo>
                      <a:cubicBezTo>
                        <a:pt x="21462" y="17757"/>
                        <a:pt x="21508" y="19063"/>
                        <a:pt x="20683" y="19832"/>
                      </a:cubicBezTo>
                      <a:cubicBezTo>
                        <a:pt x="20499" y="20140"/>
                        <a:pt x="20041" y="21139"/>
                        <a:pt x="19949" y="21600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8" name="Freeform 21"/>
                <p:cNvSpPr/>
                <p:nvPr/>
              </p:nvSpPr>
              <p:spPr>
                <a:xfrm>
                  <a:off x="4304160" y="168120"/>
                  <a:ext cx="647640" cy="446400"/>
                </a:xfrm>
                <a:custGeom>
                  <a:avLst/>
                  <a:gdLst/>
                  <a:ahLst/>
                  <a:rect l="l" t="t" r="r" b="b"/>
                  <a:pathLst>
                    <a:path w="21006" h="21465">
                      <a:moveTo>
                        <a:pt x="1623" y="922"/>
                      </a:moveTo>
                      <a:lnTo>
                        <a:pt x="8735" y="103"/>
                      </a:lnTo>
                      <a:cubicBezTo>
                        <a:pt x="10733" y="512"/>
                        <a:pt x="10030" y="-51"/>
                        <a:pt x="10228" y="1331"/>
                      </a:cubicBezTo>
                      <a:cubicBezTo>
                        <a:pt x="10623" y="1177"/>
                        <a:pt x="10447" y="973"/>
                        <a:pt x="10843" y="819"/>
                      </a:cubicBezTo>
                      <a:cubicBezTo>
                        <a:pt x="11018" y="896"/>
                        <a:pt x="11172" y="1126"/>
                        <a:pt x="11369" y="1126"/>
                      </a:cubicBezTo>
                      <a:cubicBezTo>
                        <a:pt x="11545" y="1126"/>
                        <a:pt x="11896" y="922"/>
                        <a:pt x="11896" y="922"/>
                      </a:cubicBezTo>
                      <a:cubicBezTo>
                        <a:pt x="12028" y="1357"/>
                        <a:pt x="11940" y="1485"/>
                        <a:pt x="11721" y="1843"/>
                      </a:cubicBezTo>
                      <a:cubicBezTo>
                        <a:pt x="12006" y="2867"/>
                        <a:pt x="11896" y="2559"/>
                        <a:pt x="12511" y="3276"/>
                      </a:cubicBezTo>
                      <a:cubicBezTo>
                        <a:pt x="12643" y="3737"/>
                        <a:pt x="12774" y="3737"/>
                        <a:pt x="13125" y="3481"/>
                      </a:cubicBezTo>
                      <a:cubicBezTo>
                        <a:pt x="12994" y="2994"/>
                        <a:pt x="12862" y="2687"/>
                        <a:pt x="12686" y="2252"/>
                      </a:cubicBezTo>
                      <a:cubicBezTo>
                        <a:pt x="12621" y="2048"/>
                        <a:pt x="12511" y="1638"/>
                        <a:pt x="12511" y="1638"/>
                      </a:cubicBezTo>
                      <a:cubicBezTo>
                        <a:pt x="12664" y="1075"/>
                        <a:pt x="12928" y="1382"/>
                        <a:pt x="13125" y="1740"/>
                      </a:cubicBezTo>
                      <a:cubicBezTo>
                        <a:pt x="13191" y="2150"/>
                        <a:pt x="13169" y="2943"/>
                        <a:pt x="13564" y="2252"/>
                      </a:cubicBezTo>
                      <a:cubicBezTo>
                        <a:pt x="14047" y="2431"/>
                        <a:pt x="14003" y="2611"/>
                        <a:pt x="13916" y="3174"/>
                      </a:cubicBezTo>
                      <a:cubicBezTo>
                        <a:pt x="14091" y="3788"/>
                        <a:pt x="14421" y="3558"/>
                        <a:pt x="14794" y="3276"/>
                      </a:cubicBezTo>
                      <a:cubicBezTo>
                        <a:pt x="14947" y="2713"/>
                        <a:pt x="14596" y="3122"/>
                        <a:pt x="14794" y="2457"/>
                      </a:cubicBezTo>
                      <a:cubicBezTo>
                        <a:pt x="14816" y="2355"/>
                        <a:pt x="14969" y="2406"/>
                        <a:pt x="15057" y="2355"/>
                      </a:cubicBezTo>
                      <a:cubicBezTo>
                        <a:pt x="15145" y="2304"/>
                        <a:pt x="15233" y="2227"/>
                        <a:pt x="15321" y="2150"/>
                      </a:cubicBezTo>
                      <a:cubicBezTo>
                        <a:pt x="15562" y="1331"/>
                        <a:pt x="14925" y="1331"/>
                        <a:pt x="16111" y="1126"/>
                      </a:cubicBezTo>
                      <a:cubicBezTo>
                        <a:pt x="16243" y="640"/>
                        <a:pt x="16089" y="179"/>
                        <a:pt x="16550" y="0"/>
                      </a:cubicBezTo>
                      <a:cubicBezTo>
                        <a:pt x="17121" y="231"/>
                        <a:pt x="16879" y="922"/>
                        <a:pt x="17428" y="1126"/>
                      </a:cubicBezTo>
                      <a:cubicBezTo>
                        <a:pt x="18064" y="870"/>
                        <a:pt x="17494" y="1561"/>
                        <a:pt x="17340" y="1740"/>
                      </a:cubicBezTo>
                      <a:cubicBezTo>
                        <a:pt x="17143" y="2406"/>
                        <a:pt x="17099" y="2406"/>
                        <a:pt x="17428" y="2969"/>
                      </a:cubicBezTo>
                      <a:cubicBezTo>
                        <a:pt x="17406" y="3071"/>
                        <a:pt x="17406" y="3199"/>
                        <a:pt x="17340" y="3276"/>
                      </a:cubicBezTo>
                      <a:cubicBezTo>
                        <a:pt x="17252" y="3353"/>
                        <a:pt x="17033" y="3250"/>
                        <a:pt x="16989" y="3378"/>
                      </a:cubicBezTo>
                      <a:cubicBezTo>
                        <a:pt x="16945" y="3583"/>
                        <a:pt x="17164" y="3993"/>
                        <a:pt x="17164" y="3993"/>
                      </a:cubicBezTo>
                      <a:cubicBezTo>
                        <a:pt x="17077" y="4069"/>
                        <a:pt x="17011" y="4172"/>
                        <a:pt x="16901" y="4197"/>
                      </a:cubicBezTo>
                      <a:cubicBezTo>
                        <a:pt x="16813" y="4223"/>
                        <a:pt x="16703" y="4018"/>
                        <a:pt x="16638" y="4095"/>
                      </a:cubicBezTo>
                      <a:cubicBezTo>
                        <a:pt x="16462" y="4300"/>
                        <a:pt x="17252" y="4607"/>
                        <a:pt x="17252" y="4607"/>
                      </a:cubicBezTo>
                      <a:cubicBezTo>
                        <a:pt x="17472" y="5349"/>
                        <a:pt x="16835" y="4812"/>
                        <a:pt x="16550" y="4709"/>
                      </a:cubicBezTo>
                      <a:cubicBezTo>
                        <a:pt x="16660" y="4914"/>
                        <a:pt x="16791" y="5119"/>
                        <a:pt x="16901" y="5323"/>
                      </a:cubicBezTo>
                      <a:cubicBezTo>
                        <a:pt x="17011" y="5528"/>
                        <a:pt x="17428" y="5733"/>
                        <a:pt x="17428" y="5733"/>
                      </a:cubicBezTo>
                      <a:cubicBezTo>
                        <a:pt x="17669" y="6142"/>
                        <a:pt x="17472" y="6219"/>
                        <a:pt x="17603" y="6654"/>
                      </a:cubicBezTo>
                      <a:cubicBezTo>
                        <a:pt x="17450" y="7166"/>
                        <a:pt x="17230" y="7652"/>
                        <a:pt x="17077" y="8190"/>
                      </a:cubicBezTo>
                      <a:cubicBezTo>
                        <a:pt x="17011" y="8394"/>
                        <a:pt x="16901" y="8804"/>
                        <a:pt x="16901" y="8804"/>
                      </a:cubicBezTo>
                      <a:cubicBezTo>
                        <a:pt x="17055" y="9316"/>
                        <a:pt x="17757" y="10032"/>
                        <a:pt x="18043" y="10544"/>
                      </a:cubicBezTo>
                      <a:cubicBezTo>
                        <a:pt x="18152" y="10749"/>
                        <a:pt x="18284" y="10954"/>
                        <a:pt x="18394" y="11158"/>
                      </a:cubicBezTo>
                      <a:cubicBezTo>
                        <a:pt x="18460" y="11261"/>
                        <a:pt x="18569" y="11466"/>
                        <a:pt x="18569" y="11466"/>
                      </a:cubicBezTo>
                      <a:cubicBezTo>
                        <a:pt x="18547" y="11645"/>
                        <a:pt x="18591" y="11875"/>
                        <a:pt x="18482" y="11977"/>
                      </a:cubicBezTo>
                      <a:cubicBezTo>
                        <a:pt x="18350" y="12105"/>
                        <a:pt x="18064" y="11491"/>
                        <a:pt x="18043" y="11466"/>
                      </a:cubicBezTo>
                      <a:cubicBezTo>
                        <a:pt x="17625" y="10979"/>
                        <a:pt x="17143" y="10723"/>
                        <a:pt x="16813" y="10135"/>
                      </a:cubicBezTo>
                      <a:cubicBezTo>
                        <a:pt x="16703" y="9649"/>
                        <a:pt x="16638" y="9444"/>
                        <a:pt x="16199" y="9623"/>
                      </a:cubicBezTo>
                      <a:cubicBezTo>
                        <a:pt x="15562" y="9367"/>
                        <a:pt x="15847" y="9367"/>
                        <a:pt x="15321" y="9521"/>
                      </a:cubicBezTo>
                      <a:cubicBezTo>
                        <a:pt x="14925" y="10237"/>
                        <a:pt x="15167" y="10058"/>
                        <a:pt x="14706" y="10237"/>
                      </a:cubicBezTo>
                      <a:cubicBezTo>
                        <a:pt x="14179" y="9828"/>
                        <a:pt x="14091" y="9930"/>
                        <a:pt x="13389" y="10032"/>
                      </a:cubicBezTo>
                      <a:cubicBezTo>
                        <a:pt x="13147" y="10467"/>
                        <a:pt x="13016" y="10851"/>
                        <a:pt x="12774" y="11261"/>
                      </a:cubicBezTo>
                      <a:cubicBezTo>
                        <a:pt x="12994" y="12003"/>
                        <a:pt x="12840" y="11696"/>
                        <a:pt x="13125" y="12182"/>
                      </a:cubicBezTo>
                      <a:cubicBezTo>
                        <a:pt x="12840" y="13206"/>
                        <a:pt x="13477" y="13974"/>
                        <a:pt x="13916" y="14741"/>
                      </a:cubicBezTo>
                      <a:cubicBezTo>
                        <a:pt x="14113" y="15074"/>
                        <a:pt x="14113" y="15330"/>
                        <a:pt x="14443" y="15458"/>
                      </a:cubicBezTo>
                      <a:cubicBezTo>
                        <a:pt x="14750" y="15995"/>
                        <a:pt x="14991" y="15893"/>
                        <a:pt x="15408" y="15560"/>
                      </a:cubicBezTo>
                      <a:cubicBezTo>
                        <a:pt x="15825" y="15714"/>
                        <a:pt x="15825" y="15458"/>
                        <a:pt x="15935" y="15049"/>
                      </a:cubicBezTo>
                      <a:cubicBezTo>
                        <a:pt x="15957" y="14716"/>
                        <a:pt x="15869" y="14332"/>
                        <a:pt x="16023" y="14025"/>
                      </a:cubicBezTo>
                      <a:cubicBezTo>
                        <a:pt x="16111" y="13846"/>
                        <a:pt x="16550" y="13820"/>
                        <a:pt x="16550" y="13820"/>
                      </a:cubicBezTo>
                      <a:cubicBezTo>
                        <a:pt x="17011" y="13948"/>
                        <a:pt x="17077" y="14076"/>
                        <a:pt x="16813" y="14537"/>
                      </a:cubicBezTo>
                      <a:cubicBezTo>
                        <a:pt x="16923" y="15049"/>
                        <a:pt x="17164" y="15432"/>
                        <a:pt x="16725" y="15765"/>
                      </a:cubicBezTo>
                      <a:cubicBezTo>
                        <a:pt x="16703" y="15867"/>
                        <a:pt x="16594" y="15970"/>
                        <a:pt x="16638" y="16072"/>
                      </a:cubicBezTo>
                      <a:cubicBezTo>
                        <a:pt x="16682" y="16175"/>
                        <a:pt x="16835" y="16175"/>
                        <a:pt x="16901" y="16277"/>
                      </a:cubicBezTo>
                      <a:cubicBezTo>
                        <a:pt x="17121" y="16610"/>
                        <a:pt x="17077" y="16840"/>
                        <a:pt x="17428" y="17096"/>
                      </a:cubicBezTo>
                      <a:cubicBezTo>
                        <a:pt x="17603" y="17019"/>
                        <a:pt x="17779" y="16968"/>
                        <a:pt x="17955" y="16891"/>
                      </a:cubicBezTo>
                      <a:cubicBezTo>
                        <a:pt x="18043" y="16866"/>
                        <a:pt x="18218" y="16789"/>
                        <a:pt x="18218" y="16789"/>
                      </a:cubicBezTo>
                      <a:cubicBezTo>
                        <a:pt x="18635" y="16942"/>
                        <a:pt x="18789" y="17352"/>
                        <a:pt x="18921" y="17813"/>
                      </a:cubicBezTo>
                      <a:cubicBezTo>
                        <a:pt x="18679" y="18657"/>
                        <a:pt x="19294" y="20269"/>
                        <a:pt x="20062" y="20576"/>
                      </a:cubicBezTo>
                      <a:cubicBezTo>
                        <a:pt x="20413" y="20449"/>
                        <a:pt x="20479" y="20218"/>
                        <a:pt x="20852" y="20372"/>
                      </a:cubicBezTo>
                      <a:cubicBezTo>
                        <a:pt x="21423" y="21370"/>
                        <a:pt x="20194" y="20013"/>
                        <a:pt x="20501" y="21088"/>
                      </a:cubicBezTo>
                      <a:cubicBezTo>
                        <a:pt x="20369" y="21549"/>
                        <a:pt x="20238" y="21549"/>
                        <a:pt x="19886" y="21293"/>
                      </a:cubicBezTo>
                      <a:cubicBezTo>
                        <a:pt x="19645" y="20858"/>
                        <a:pt x="19360" y="20960"/>
                        <a:pt x="19008" y="20679"/>
                      </a:cubicBezTo>
                      <a:cubicBezTo>
                        <a:pt x="18503" y="19809"/>
                        <a:pt x="19184" y="20832"/>
                        <a:pt x="18569" y="20269"/>
                      </a:cubicBezTo>
                      <a:cubicBezTo>
                        <a:pt x="18328" y="20039"/>
                        <a:pt x="18262" y="19604"/>
                        <a:pt x="18043" y="19348"/>
                      </a:cubicBezTo>
                      <a:cubicBezTo>
                        <a:pt x="17911" y="18862"/>
                        <a:pt x="17757" y="18478"/>
                        <a:pt x="17340" y="18324"/>
                      </a:cubicBezTo>
                      <a:cubicBezTo>
                        <a:pt x="17186" y="17761"/>
                        <a:pt x="17384" y="18171"/>
                        <a:pt x="16901" y="18120"/>
                      </a:cubicBezTo>
                      <a:cubicBezTo>
                        <a:pt x="16660" y="18094"/>
                        <a:pt x="16199" y="17915"/>
                        <a:pt x="16199" y="17915"/>
                      </a:cubicBezTo>
                      <a:cubicBezTo>
                        <a:pt x="15825" y="17633"/>
                        <a:pt x="15628" y="17198"/>
                        <a:pt x="15233" y="16891"/>
                      </a:cubicBezTo>
                      <a:cubicBezTo>
                        <a:pt x="15057" y="16968"/>
                        <a:pt x="14903" y="17173"/>
                        <a:pt x="14706" y="17198"/>
                      </a:cubicBezTo>
                      <a:cubicBezTo>
                        <a:pt x="14245" y="17275"/>
                        <a:pt x="13652" y="16763"/>
                        <a:pt x="13301" y="16482"/>
                      </a:cubicBezTo>
                      <a:cubicBezTo>
                        <a:pt x="12994" y="16251"/>
                        <a:pt x="12555" y="16303"/>
                        <a:pt x="12247" y="16072"/>
                      </a:cubicBezTo>
                      <a:cubicBezTo>
                        <a:pt x="11808" y="15740"/>
                        <a:pt x="11347" y="15484"/>
                        <a:pt x="10930" y="15151"/>
                      </a:cubicBezTo>
                      <a:cubicBezTo>
                        <a:pt x="11084" y="14588"/>
                        <a:pt x="10996" y="14050"/>
                        <a:pt x="10579" y="13718"/>
                      </a:cubicBezTo>
                      <a:cubicBezTo>
                        <a:pt x="10469" y="13308"/>
                        <a:pt x="10272" y="13129"/>
                        <a:pt x="9964" y="12899"/>
                      </a:cubicBezTo>
                      <a:cubicBezTo>
                        <a:pt x="9503" y="12080"/>
                        <a:pt x="10118" y="13078"/>
                        <a:pt x="9525" y="12387"/>
                      </a:cubicBezTo>
                      <a:cubicBezTo>
                        <a:pt x="9394" y="12233"/>
                        <a:pt x="9394" y="11926"/>
                        <a:pt x="9262" y="11773"/>
                      </a:cubicBezTo>
                      <a:cubicBezTo>
                        <a:pt x="9196" y="11696"/>
                        <a:pt x="9086" y="11696"/>
                        <a:pt x="8999" y="11670"/>
                      </a:cubicBezTo>
                      <a:cubicBezTo>
                        <a:pt x="8757" y="11389"/>
                        <a:pt x="8208" y="10954"/>
                        <a:pt x="8208" y="10954"/>
                      </a:cubicBezTo>
                      <a:cubicBezTo>
                        <a:pt x="7967" y="10519"/>
                        <a:pt x="7682" y="10160"/>
                        <a:pt x="7418" y="9725"/>
                      </a:cubicBezTo>
                      <a:cubicBezTo>
                        <a:pt x="7374" y="9623"/>
                        <a:pt x="7396" y="9495"/>
                        <a:pt x="7330" y="9418"/>
                      </a:cubicBezTo>
                      <a:cubicBezTo>
                        <a:pt x="7264" y="9341"/>
                        <a:pt x="7155" y="9341"/>
                        <a:pt x="7067" y="9316"/>
                      </a:cubicBezTo>
                      <a:cubicBezTo>
                        <a:pt x="6891" y="9930"/>
                        <a:pt x="7330" y="10135"/>
                        <a:pt x="7594" y="10544"/>
                      </a:cubicBezTo>
                      <a:cubicBezTo>
                        <a:pt x="7901" y="11005"/>
                        <a:pt x="7989" y="11363"/>
                        <a:pt x="8384" y="11670"/>
                      </a:cubicBezTo>
                      <a:cubicBezTo>
                        <a:pt x="8801" y="12413"/>
                        <a:pt x="8582" y="12105"/>
                        <a:pt x="8999" y="12592"/>
                      </a:cubicBezTo>
                      <a:cubicBezTo>
                        <a:pt x="9108" y="13001"/>
                        <a:pt x="9218" y="13180"/>
                        <a:pt x="9525" y="13411"/>
                      </a:cubicBezTo>
                      <a:cubicBezTo>
                        <a:pt x="9701" y="14025"/>
                        <a:pt x="9306" y="13590"/>
                        <a:pt x="9086" y="13411"/>
                      </a:cubicBezTo>
                      <a:cubicBezTo>
                        <a:pt x="8582" y="12540"/>
                        <a:pt x="9262" y="13564"/>
                        <a:pt x="8647" y="13001"/>
                      </a:cubicBezTo>
                      <a:cubicBezTo>
                        <a:pt x="8560" y="12924"/>
                        <a:pt x="8538" y="12771"/>
                        <a:pt x="8472" y="12694"/>
                      </a:cubicBezTo>
                      <a:cubicBezTo>
                        <a:pt x="8406" y="12617"/>
                        <a:pt x="8296" y="12566"/>
                        <a:pt x="8208" y="12489"/>
                      </a:cubicBezTo>
                      <a:cubicBezTo>
                        <a:pt x="8099" y="12080"/>
                        <a:pt x="7945" y="12003"/>
                        <a:pt x="7594" y="11875"/>
                      </a:cubicBezTo>
                      <a:cubicBezTo>
                        <a:pt x="7374" y="11517"/>
                        <a:pt x="7286" y="11389"/>
                        <a:pt x="7418" y="10954"/>
                      </a:cubicBezTo>
                      <a:cubicBezTo>
                        <a:pt x="7243" y="10647"/>
                        <a:pt x="6716" y="10237"/>
                        <a:pt x="6716" y="10237"/>
                      </a:cubicBezTo>
                      <a:cubicBezTo>
                        <a:pt x="6540" y="9930"/>
                        <a:pt x="6364" y="9623"/>
                        <a:pt x="6189" y="9316"/>
                      </a:cubicBezTo>
                      <a:cubicBezTo>
                        <a:pt x="6057" y="9085"/>
                        <a:pt x="5816" y="9009"/>
                        <a:pt x="5662" y="8804"/>
                      </a:cubicBezTo>
                      <a:cubicBezTo>
                        <a:pt x="5596" y="8702"/>
                        <a:pt x="5574" y="8574"/>
                        <a:pt x="5486" y="8497"/>
                      </a:cubicBezTo>
                      <a:cubicBezTo>
                        <a:pt x="5157" y="8241"/>
                        <a:pt x="4762" y="8241"/>
                        <a:pt x="4433" y="7985"/>
                      </a:cubicBezTo>
                      <a:cubicBezTo>
                        <a:pt x="4235" y="7627"/>
                        <a:pt x="4082" y="7396"/>
                        <a:pt x="3730" y="7268"/>
                      </a:cubicBezTo>
                      <a:cubicBezTo>
                        <a:pt x="3335" y="6603"/>
                        <a:pt x="4038" y="6270"/>
                        <a:pt x="3203" y="6040"/>
                      </a:cubicBezTo>
                      <a:cubicBezTo>
                        <a:pt x="2260" y="5298"/>
                        <a:pt x="2150" y="3762"/>
                        <a:pt x="1799" y="2559"/>
                      </a:cubicBezTo>
                      <a:cubicBezTo>
                        <a:pt x="1711" y="2252"/>
                        <a:pt x="1491" y="1817"/>
                        <a:pt x="1272" y="1638"/>
                      </a:cubicBezTo>
                      <a:cubicBezTo>
                        <a:pt x="1096" y="1485"/>
                        <a:pt x="745" y="1229"/>
                        <a:pt x="745" y="1229"/>
                      </a:cubicBezTo>
                      <a:cubicBezTo>
                        <a:pt x="679" y="1126"/>
                        <a:pt x="657" y="998"/>
                        <a:pt x="569" y="922"/>
                      </a:cubicBezTo>
                      <a:cubicBezTo>
                        <a:pt x="416" y="819"/>
                        <a:pt x="43" y="717"/>
                        <a:pt x="43" y="717"/>
                      </a:cubicBezTo>
                      <a:cubicBezTo>
                        <a:pt x="-177" y="-25"/>
                        <a:pt x="503" y="384"/>
                        <a:pt x="833" y="512"/>
                      </a:cubicBezTo>
                      <a:cubicBezTo>
                        <a:pt x="1250" y="1254"/>
                        <a:pt x="1162" y="998"/>
                        <a:pt x="1711" y="1433"/>
                      </a:cubicBezTo>
                      <a:cubicBezTo>
                        <a:pt x="1886" y="1740"/>
                        <a:pt x="1886" y="2329"/>
                        <a:pt x="2062" y="1740"/>
                      </a:cubicBezTo>
                      <a:cubicBezTo>
                        <a:pt x="1908" y="1203"/>
                        <a:pt x="1623" y="1536"/>
                        <a:pt x="1623" y="922"/>
                      </a:cubicBezTo>
                      <a:close/>
                      <a:moveTo>
                        <a:pt x="1623" y="9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9" name="Freeform 22"/>
                <p:cNvSpPr/>
                <p:nvPr/>
              </p:nvSpPr>
              <p:spPr>
                <a:xfrm>
                  <a:off x="4094640" y="498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4054" h="14065">
                      <a:moveTo>
                        <a:pt x="2457" y="5065"/>
                      </a:moveTo>
                      <a:cubicBezTo>
                        <a:pt x="13857" y="-7535"/>
                        <a:pt x="20457" y="6415"/>
                        <a:pt x="4857" y="14065"/>
                      </a:cubicBezTo>
                      <a:cubicBezTo>
                        <a:pt x="-1143" y="7765"/>
                        <a:pt x="-1143" y="10465"/>
                        <a:pt x="2457" y="5065"/>
                      </a:cubicBezTo>
                      <a:close/>
                      <a:moveTo>
                        <a:pt x="2457" y="506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0" name="Freeform 23"/>
                <p:cNvSpPr/>
                <p:nvPr/>
              </p:nvSpPr>
              <p:spPr>
                <a:xfrm>
                  <a:off x="4075560" y="48096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21600" h="15996">
                      <a:moveTo>
                        <a:pt x="0" y="2428"/>
                      </a:moveTo>
                      <a:cubicBezTo>
                        <a:pt x="2400" y="1844"/>
                        <a:pt x="4800" y="-491"/>
                        <a:pt x="7200" y="93"/>
                      </a:cubicBezTo>
                      <a:cubicBezTo>
                        <a:pt x="12600" y="1844"/>
                        <a:pt x="21600" y="9433"/>
                        <a:pt x="21600" y="9433"/>
                      </a:cubicBezTo>
                      <a:cubicBezTo>
                        <a:pt x="17400" y="21109"/>
                        <a:pt x="13200" y="14687"/>
                        <a:pt x="4800" y="9433"/>
                      </a:cubicBezTo>
                      <a:cubicBezTo>
                        <a:pt x="3000" y="7098"/>
                        <a:pt x="0" y="2428"/>
                        <a:pt x="0" y="2428"/>
                      </a:cubicBezTo>
                      <a:close/>
                      <a:moveTo>
                        <a:pt x="0" y="24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1" name="Freeform 24"/>
                <p:cNvSpPr/>
                <p:nvPr/>
              </p:nvSpPr>
              <p:spPr>
                <a:xfrm>
                  <a:off x="4845600" y="431640"/>
                  <a:ext cx="109440" cy="42840"/>
                </a:xfrm>
                <a:custGeom>
                  <a:avLst/>
                  <a:gdLst/>
                  <a:ahLst/>
                  <a:rect l="l" t="t" r="r" b="b"/>
                  <a:pathLst>
                    <a:path w="20548" h="17162">
                      <a:moveTo>
                        <a:pt x="0" y="9089"/>
                      </a:moveTo>
                      <a:cubicBezTo>
                        <a:pt x="635" y="5489"/>
                        <a:pt x="1525" y="4814"/>
                        <a:pt x="3558" y="3689"/>
                      </a:cubicBezTo>
                      <a:cubicBezTo>
                        <a:pt x="2541" y="-1936"/>
                        <a:pt x="5336" y="1664"/>
                        <a:pt x="7115" y="2789"/>
                      </a:cubicBezTo>
                      <a:cubicBezTo>
                        <a:pt x="7115" y="2789"/>
                        <a:pt x="9784" y="-586"/>
                        <a:pt x="10165" y="89"/>
                      </a:cubicBezTo>
                      <a:cubicBezTo>
                        <a:pt x="10800" y="1214"/>
                        <a:pt x="9021" y="3239"/>
                        <a:pt x="8132" y="3689"/>
                      </a:cubicBezTo>
                      <a:cubicBezTo>
                        <a:pt x="10419" y="6389"/>
                        <a:pt x="13087" y="7514"/>
                        <a:pt x="15755" y="9089"/>
                      </a:cubicBezTo>
                      <a:cubicBezTo>
                        <a:pt x="17280" y="9989"/>
                        <a:pt x="20329" y="12689"/>
                        <a:pt x="20329" y="12689"/>
                      </a:cubicBezTo>
                      <a:cubicBezTo>
                        <a:pt x="21600" y="19664"/>
                        <a:pt x="17026" y="16739"/>
                        <a:pt x="14739" y="15389"/>
                      </a:cubicBezTo>
                      <a:cubicBezTo>
                        <a:pt x="13849" y="10889"/>
                        <a:pt x="14739" y="12914"/>
                        <a:pt x="11181" y="10889"/>
                      </a:cubicBezTo>
                      <a:cubicBezTo>
                        <a:pt x="10673" y="10664"/>
                        <a:pt x="9656" y="9989"/>
                        <a:pt x="9656" y="9989"/>
                      </a:cubicBezTo>
                      <a:cubicBezTo>
                        <a:pt x="7242" y="5714"/>
                        <a:pt x="6734" y="6389"/>
                        <a:pt x="3049" y="7289"/>
                      </a:cubicBezTo>
                      <a:cubicBezTo>
                        <a:pt x="1144" y="9539"/>
                        <a:pt x="2160" y="9089"/>
                        <a:pt x="0" y="9089"/>
                      </a:cubicBezTo>
                      <a:close/>
                      <a:moveTo>
                        <a:pt x="0" y="90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2" name="Freeform 25"/>
                <p:cNvSpPr/>
                <p:nvPr/>
              </p:nvSpPr>
              <p:spPr>
                <a:xfrm>
                  <a:off x="4967640" y="471600"/>
                  <a:ext cx="84240" cy="23760"/>
                </a:xfrm>
                <a:custGeom>
                  <a:avLst/>
                  <a:gdLst/>
                  <a:ahLst/>
                  <a:rect l="l" t="t" r="r" b="b"/>
                  <a:pathLst>
                    <a:path w="19535" h="21600">
                      <a:moveTo>
                        <a:pt x="0" y="0"/>
                      </a:moveTo>
                      <a:cubicBezTo>
                        <a:pt x="2974" y="1473"/>
                        <a:pt x="5478" y="4909"/>
                        <a:pt x="8139" y="1964"/>
                      </a:cubicBezTo>
                      <a:cubicBezTo>
                        <a:pt x="13617" y="5400"/>
                        <a:pt x="9548" y="7364"/>
                        <a:pt x="13774" y="11782"/>
                      </a:cubicBezTo>
                      <a:cubicBezTo>
                        <a:pt x="15026" y="11291"/>
                        <a:pt x="16278" y="9327"/>
                        <a:pt x="17530" y="9818"/>
                      </a:cubicBezTo>
                      <a:cubicBezTo>
                        <a:pt x="21600" y="11291"/>
                        <a:pt x="18470" y="20127"/>
                        <a:pt x="16904" y="21600"/>
                      </a:cubicBezTo>
                      <a:cubicBezTo>
                        <a:pt x="12209" y="16691"/>
                        <a:pt x="14400" y="16691"/>
                        <a:pt x="10017" y="19636"/>
                      </a:cubicBezTo>
                      <a:cubicBezTo>
                        <a:pt x="6417" y="18164"/>
                        <a:pt x="3443" y="20127"/>
                        <a:pt x="0" y="17673"/>
                      </a:cubicBezTo>
                      <a:cubicBezTo>
                        <a:pt x="939" y="5400"/>
                        <a:pt x="1096" y="13255"/>
                        <a:pt x="4383" y="9818"/>
                      </a:cubicBezTo>
                      <a:cubicBezTo>
                        <a:pt x="2661" y="6382"/>
                        <a:pt x="0" y="6382"/>
                        <a:pt x="0" y="0"/>
                      </a:cubicBez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3" name="Freeform 26"/>
                <p:cNvSpPr/>
                <p:nvPr/>
              </p:nvSpPr>
              <p:spPr>
                <a:xfrm>
                  <a:off x="4924800" y="487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2677" h="11240">
                      <a:moveTo>
                        <a:pt x="2391" y="8694"/>
                      </a:moveTo>
                      <a:cubicBezTo>
                        <a:pt x="-4051" y="-4163"/>
                        <a:pt x="3907" y="466"/>
                        <a:pt x="9970" y="2523"/>
                      </a:cubicBezTo>
                      <a:cubicBezTo>
                        <a:pt x="17549" y="17437"/>
                        <a:pt x="7317" y="8694"/>
                        <a:pt x="2391" y="8694"/>
                      </a:cubicBezTo>
                      <a:close/>
                      <a:moveTo>
                        <a:pt x="2391" y="869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4" name="Freeform 27"/>
                <p:cNvSpPr/>
                <p:nvPr/>
              </p:nvSpPr>
              <p:spPr>
                <a:xfrm>
                  <a:off x="4897800" y="4158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10960" h="15340">
                      <a:moveTo>
                        <a:pt x="5506" y="13292"/>
                      </a:moveTo>
                      <a:cubicBezTo>
                        <a:pt x="2183" y="5815"/>
                        <a:pt x="-5017" y="5400"/>
                        <a:pt x="5506" y="0"/>
                      </a:cubicBezTo>
                      <a:cubicBezTo>
                        <a:pt x="7721" y="2077"/>
                        <a:pt x="16583" y="21600"/>
                        <a:pt x="5506" y="13292"/>
                      </a:cubicBezTo>
                      <a:close/>
                      <a:moveTo>
                        <a:pt x="5506" y="1329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5" name="Freeform 28"/>
                <p:cNvSpPr/>
                <p:nvPr/>
              </p:nvSpPr>
              <p:spPr>
                <a:xfrm>
                  <a:off x="5094720" y="5032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9487" h="19095">
                      <a:moveTo>
                        <a:pt x="1964" y="1262"/>
                      </a:moveTo>
                      <a:cubicBezTo>
                        <a:pt x="4418" y="3422"/>
                        <a:pt x="8836" y="5312"/>
                        <a:pt x="9818" y="7742"/>
                      </a:cubicBezTo>
                      <a:cubicBezTo>
                        <a:pt x="10309" y="9092"/>
                        <a:pt x="10309" y="10982"/>
                        <a:pt x="11782" y="12062"/>
                      </a:cubicBezTo>
                      <a:cubicBezTo>
                        <a:pt x="13255" y="12872"/>
                        <a:pt x="15709" y="12872"/>
                        <a:pt x="17673" y="13142"/>
                      </a:cubicBezTo>
                      <a:cubicBezTo>
                        <a:pt x="20127" y="17192"/>
                        <a:pt x="21600" y="20432"/>
                        <a:pt x="11782" y="18542"/>
                      </a:cubicBezTo>
                      <a:cubicBezTo>
                        <a:pt x="9327" y="13682"/>
                        <a:pt x="5400" y="8822"/>
                        <a:pt x="0" y="4502"/>
                      </a:cubicBezTo>
                      <a:cubicBezTo>
                        <a:pt x="1964" y="-88"/>
                        <a:pt x="1964" y="-1168"/>
                        <a:pt x="1964" y="1262"/>
                      </a:cubicBezTo>
                      <a:close/>
                      <a:moveTo>
                        <a:pt x="1964" y="126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6" name="Freeform 29"/>
                <p:cNvSpPr/>
                <p:nvPr/>
              </p:nvSpPr>
              <p:spPr>
                <a:xfrm>
                  <a:off x="4556520" y="176040"/>
                  <a:ext cx="322200" cy="63720"/>
                </a:xfrm>
                <a:custGeom>
                  <a:avLst/>
                  <a:gdLst/>
                  <a:ahLst/>
                  <a:rect l="l" t="t" r="r" b="b"/>
                  <a:pathLst>
                    <a:path w="21403" h="21263">
                      <a:moveTo>
                        <a:pt x="14646" y="338"/>
                      </a:moveTo>
                      <a:cubicBezTo>
                        <a:pt x="14312" y="4050"/>
                        <a:pt x="14980" y="5738"/>
                        <a:pt x="15382" y="2700"/>
                      </a:cubicBezTo>
                      <a:cubicBezTo>
                        <a:pt x="15649" y="0"/>
                        <a:pt x="15248" y="2363"/>
                        <a:pt x="15649" y="0"/>
                      </a:cubicBezTo>
                      <a:lnTo>
                        <a:pt x="17655" y="0"/>
                      </a:lnTo>
                      <a:cubicBezTo>
                        <a:pt x="18458" y="2025"/>
                        <a:pt x="18391" y="3713"/>
                        <a:pt x="19127" y="5738"/>
                      </a:cubicBezTo>
                      <a:cubicBezTo>
                        <a:pt x="20531" y="3713"/>
                        <a:pt x="19528" y="2363"/>
                        <a:pt x="21267" y="3375"/>
                      </a:cubicBezTo>
                      <a:cubicBezTo>
                        <a:pt x="21534" y="6413"/>
                        <a:pt x="21400" y="7425"/>
                        <a:pt x="20932" y="9788"/>
                      </a:cubicBezTo>
                      <a:cubicBezTo>
                        <a:pt x="20798" y="13163"/>
                        <a:pt x="20865" y="16875"/>
                        <a:pt x="19862" y="15525"/>
                      </a:cubicBezTo>
                      <a:cubicBezTo>
                        <a:pt x="19795" y="13500"/>
                        <a:pt x="19862" y="11475"/>
                        <a:pt x="19662" y="9788"/>
                      </a:cubicBezTo>
                      <a:cubicBezTo>
                        <a:pt x="19595" y="9113"/>
                        <a:pt x="19327" y="10463"/>
                        <a:pt x="19127" y="10463"/>
                      </a:cubicBezTo>
                      <a:cubicBezTo>
                        <a:pt x="18926" y="10463"/>
                        <a:pt x="18792" y="10125"/>
                        <a:pt x="18592" y="9788"/>
                      </a:cubicBezTo>
                      <a:cubicBezTo>
                        <a:pt x="18257" y="9113"/>
                        <a:pt x="17522" y="7088"/>
                        <a:pt x="17522" y="7088"/>
                      </a:cubicBezTo>
                      <a:cubicBezTo>
                        <a:pt x="16585" y="7763"/>
                        <a:pt x="16050" y="10463"/>
                        <a:pt x="15181" y="12825"/>
                      </a:cubicBezTo>
                      <a:cubicBezTo>
                        <a:pt x="14646" y="13838"/>
                        <a:pt x="13910" y="14175"/>
                        <a:pt x="13375" y="14850"/>
                      </a:cubicBezTo>
                      <a:cubicBezTo>
                        <a:pt x="12841" y="18225"/>
                        <a:pt x="13309" y="17888"/>
                        <a:pt x="14111" y="19238"/>
                      </a:cubicBezTo>
                      <a:cubicBezTo>
                        <a:pt x="13309" y="20925"/>
                        <a:pt x="13242" y="19238"/>
                        <a:pt x="12506" y="21263"/>
                      </a:cubicBezTo>
                      <a:cubicBezTo>
                        <a:pt x="12038" y="20925"/>
                        <a:pt x="11570" y="21600"/>
                        <a:pt x="11236" y="20588"/>
                      </a:cubicBezTo>
                      <a:cubicBezTo>
                        <a:pt x="11035" y="19913"/>
                        <a:pt x="11637" y="19913"/>
                        <a:pt x="11771" y="19238"/>
                      </a:cubicBezTo>
                      <a:cubicBezTo>
                        <a:pt x="12038" y="16200"/>
                        <a:pt x="9898" y="9450"/>
                        <a:pt x="11369" y="13500"/>
                      </a:cubicBezTo>
                      <a:cubicBezTo>
                        <a:pt x="12239" y="18563"/>
                        <a:pt x="12239" y="12150"/>
                        <a:pt x="11236" y="10463"/>
                      </a:cubicBezTo>
                      <a:cubicBezTo>
                        <a:pt x="11102" y="9113"/>
                        <a:pt x="11102" y="7425"/>
                        <a:pt x="10500" y="7763"/>
                      </a:cubicBezTo>
                      <a:cubicBezTo>
                        <a:pt x="10166" y="7763"/>
                        <a:pt x="9430" y="9113"/>
                        <a:pt x="9430" y="9113"/>
                      </a:cubicBezTo>
                      <a:cubicBezTo>
                        <a:pt x="9029" y="13163"/>
                        <a:pt x="9497" y="10463"/>
                        <a:pt x="8895" y="9113"/>
                      </a:cubicBezTo>
                      <a:cubicBezTo>
                        <a:pt x="8627" y="8438"/>
                        <a:pt x="8360" y="8438"/>
                        <a:pt x="8159" y="8438"/>
                      </a:cubicBezTo>
                      <a:cubicBezTo>
                        <a:pt x="7758" y="3713"/>
                        <a:pt x="6621" y="2025"/>
                        <a:pt x="5484" y="675"/>
                      </a:cubicBezTo>
                      <a:cubicBezTo>
                        <a:pt x="4615" y="1350"/>
                        <a:pt x="4548" y="3038"/>
                        <a:pt x="3880" y="4725"/>
                      </a:cubicBezTo>
                      <a:cubicBezTo>
                        <a:pt x="2943" y="4725"/>
                        <a:pt x="-66" y="4050"/>
                        <a:pt x="1" y="0"/>
                      </a:cubicBezTo>
                      <a:lnTo>
                        <a:pt x="14646" y="338"/>
                      </a:lnTo>
                      <a:close/>
                      <a:moveTo>
                        <a:pt x="14646" y="3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7" name="Freeform 30"/>
                <p:cNvSpPr/>
                <p:nvPr/>
              </p:nvSpPr>
              <p:spPr>
                <a:xfrm>
                  <a:off x="4291560" y="174600"/>
                  <a:ext cx="276120" cy="31680"/>
                </a:xfrm>
                <a:custGeom>
                  <a:avLst/>
                  <a:gdLst/>
                  <a:ahLst/>
                  <a:rect l="l" t="t" r="r" b="b"/>
                  <a:pathLst>
                    <a:path w="19726" h="21600">
                      <a:moveTo>
                        <a:pt x="5865" y="21600"/>
                      </a:moveTo>
                      <a:cubicBezTo>
                        <a:pt x="4281" y="13239"/>
                        <a:pt x="-1695" y="4181"/>
                        <a:pt x="465" y="697"/>
                      </a:cubicBezTo>
                      <a:lnTo>
                        <a:pt x="18825" y="0"/>
                      </a:lnTo>
                      <a:cubicBezTo>
                        <a:pt x="19617" y="2787"/>
                        <a:pt x="19905" y="3484"/>
                        <a:pt x="19617" y="9755"/>
                      </a:cubicBezTo>
                      <a:cubicBezTo>
                        <a:pt x="18825" y="7665"/>
                        <a:pt x="18177" y="11148"/>
                        <a:pt x="17313" y="11148"/>
                      </a:cubicBezTo>
                      <a:lnTo>
                        <a:pt x="5865" y="21600"/>
                      </a:lnTo>
                      <a:close/>
                      <a:moveTo>
                        <a:pt x="5865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8" name="Freeform 31"/>
                <p:cNvSpPr/>
                <p:nvPr/>
              </p:nvSpPr>
              <p:spPr>
                <a:xfrm>
                  <a:off x="3603600" y="22536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2826000" y="174600"/>
                  <a:ext cx="691920" cy="24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17" y="142"/>
                      </a:moveTo>
                      <a:lnTo>
                        <a:pt x="21600" y="0"/>
                      </a:lnTo>
                      <a:cubicBezTo>
                        <a:pt x="21303" y="2132"/>
                        <a:pt x="21253" y="5968"/>
                        <a:pt x="20609" y="7674"/>
                      </a:cubicBezTo>
                      <a:cubicBezTo>
                        <a:pt x="20312" y="8526"/>
                        <a:pt x="20064" y="8953"/>
                        <a:pt x="19668" y="9663"/>
                      </a:cubicBezTo>
                      <a:cubicBezTo>
                        <a:pt x="19618" y="9805"/>
                        <a:pt x="19420" y="9947"/>
                        <a:pt x="19420" y="9947"/>
                      </a:cubicBezTo>
                      <a:cubicBezTo>
                        <a:pt x="18677" y="8953"/>
                        <a:pt x="19073" y="9663"/>
                        <a:pt x="18578" y="10374"/>
                      </a:cubicBezTo>
                      <a:cubicBezTo>
                        <a:pt x="18380" y="11653"/>
                        <a:pt x="18380" y="11795"/>
                        <a:pt x="17884" y="12505"/>
                      </a:cubicBezTo>
                      <a:cubicBezTo>
                        <a:pt x="17785" y="13074"/>
                        <a:pt x="18033" y="13216"/>
                        <a:pt x="17934" y="14068"/>
                      </a:cubicBezTo>
                      <a:cubicBezTo>
                        <a:pt x="17983" y="14495"/>
                        <a:pt x="18033" y="14921"/>
                        <a:pt x="18033" y="15205"/>
                      </a:cubicBezTo>
                      <a:cubicBezTo>
                        <a:pt x="18083" y="15489"/>
                        <a:pt x="18132" y="15774"/>
                        <a:pt x="18132" y="16058"/>
                      </a:cubicBezTo>
                      <a:cubicBezTo>
                        <a:pt x="18083" y="16342"/>
                        <a:pt x="18033" y="17053"/>
                        <a:pt x="17934" y="17337"/>
                      </a:cubicBezTo>
                      <a:cubicBezTo>
                        <a:pt x="17785" y="17479"/>
                        <a:pt x="17538" y="16911"/>
                        <a:pt x="17389" y="17053"/>
                      </a:cubicBezTo>
                      <a:cubicBezTo>
                        <a:pt x="17191" y="18332"/>
                        <a:pt x="17439" y="18047"/>
                        <a:pt x="16943" y="18332"/>
                      </a:cubicBezTo>
                      <a:cubicBezTo>
                        <a:pt x="16844" y="17479"/>
                        <a:pt x="17092" y="15774"/>
                        <a:pt x="17191" y="14921"/>
                      </a:cubicBezTo>
                      <a:cubicBezTo>
                        <a:pt x="17191" y="14211"/>
                        <a:pt x="16745" y="14495"/>
                        <a:pt x="16745" y="14211"/>
                      </a:cubicBezTo>
                      <a:cubicBezTo>
                        <a:pt x="16745" y="13926"/>
                        <a:pt x="17042" y="13500"/>
                        <a:pt x="17042" y="13216"/>
                      </a:cubicBezTo>
                      <a:cubicBezTo>
                        <a:pt x="17042" y="13074"/>
                        <a:pt x="17042" y="12647"/>
                        <a:pt x="16943" y="12647"/>
                      </a:cubicBezTo>
                      <a:cubicBezTo>
                        <a:pt x="16794" y="12647"/>
                        <a:pt x="16051" y="13358"/>
                        <a:pt x="15853" y="13358"/>
                      </a:cubicBezTo>
                      <a:cubicBezTo>
                        <a:pt x="15705" y="12221"/>
                        <a:pt x="16250" y="12505"/>
                        <a:pt x="15705" y="12079"/>
                      </a:cubicBezTo>
                      <a:cubicBezTo>
                        <a:pt x="15407" y="12932"/>
                        <a:pt x="15160" y="13216"/>
                        <a:pt x="14714" y="13358"/>
                      </a:cubicBezTo>
                      <a:cubicBezTo>
                        <a:pt x="14862" y="14779"/>
                        <a:pt x="15209" y="14353"/>
                        <a:pt x="15853" y="14637"/>
                      </a:cubicBezTo>
                      <a:cubicBezTo>
                        <a:pt x="15754" y="15489"/>
                        <a:pt x="15407" y="15774"/>
                        <a:pt x="15110" y="16626"/>
                      </a:cubicBezTo>
                      <a:lnTo>
                        <a:pt x="15407" y="17905"/>
                      </a:lnTo>
                      <a:lnTo>
                        <a:pt x="15606" y="19611"/>
                      </a:lnTo>
                      <a:lnTo>
                        <a:pt x="15308" y="19753"/>
                      </a:lnTo>
                      <a:lnTo>
                        <a:pt x="15556" y="20463"/>
                      </a:lnTo>
                      <a:lnTo>
                        <a:pt x="15209" y="21600"/>
                      </a:lnTo>
                      <a:lnTo>
                        <a:pt x="0" y="21174"/>
                      </a:lnTo>
                      <a:lnTo>
                        <a:pt x="3617" y="142"/>
                      </a:lnTo>
                      <a:close/>
                      <a:moveTo>
                        <a:pt x="3617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519720" y="16668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3500640" y="24300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3400560" y="2905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277344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287028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3292560" y="452520"/>
                  <a:ext cx="27000" cy="3636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1897200" y="282600"/>
                  <a:ext cx="684360" cy="56052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2163960" y="552600"/>
                  <a:ext cx="258840" cy="29196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2621160" y="7570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19846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2457720" y="204840"/>
                  <a:ext cx="4683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2138400" y="174600"/>
                  <a:ext cx="87480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2330640" y="23184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3" name="Freeform 46"/>
                <p:cNvSpPr/>
                <p:nvPr/>
              </p:nvSpPr>
              <p:spPr>
                <a:xfrm>
                  <a:off x="23068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4" name="Freeform 47"/>
                <p:cNvSpPr/>
                <p:nvPr/>
              </p:nvSpPr>
              <p:spPr>
                <a:xfrm>
                  <a:off x="2413080" y="318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2490840" y="3207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6" name="Freeform 49"/>
                <p:cNvSpPr/>
                <p:nvPr/>
              </p:nvSpPr>
              <p:spPr>
                <a:xfrm>
                  <a:off x="2260800" y="2556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217" name="Group 86"/>
              <p:cNvGrpSpPr/>
              <p:nvPr/>
            </p:nvGrpSpPr>
            <p:grpSpPr>
              <a:xfrm>
                <a:off x="6165000" y="165240"/>
                <a:ext cx="1764000" cy="681120"/>
                <a:chOff x="6165000" y="165240"/>
                <a:chExt cx="1764000" cy="681120"/>
              </a:xfrm>
            </p:grpSpPr>
            <p:sp>
              <p:nvSpPr>
                <p:cNvPr id="218" name="Freeform 51"/>
                <p:cNvSpPr/>
                <p:nvPr/>
              </p:nvSpPr>
              <p:spPr>
                <a:xfrm>
                  <a:off x="7908480" y="76212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7595640" y="79236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7546320" y="79056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7299000" y="652680"/>
                  <a:ext cx="237960" cy="14580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7443360" y="6429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754812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7543440" y="7178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7630560" y="6876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6" name="Freeform 59"/>
                <p:cNvSpPr/>
                <p:nvPr/>
              </p:nvSpPr>
              <p:spPr>
                <a:xfrm>
                  <a:off x="7637040" y="736920"/>
                  <a:ext cx="30240" cy="1080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7" name="Freeform 60"/>
                <p:cNvSpPr/>
                <p:nvPr/>
              </p:nvSpPr>
              <p:spPr>
                <a:xfrm>
                  <a:off x="7670160" y="7128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8" name="Freeform 61"/>
                <p:cNvSpPr/>
                <p:nvPr/>
              </p:nvSpPr>
              <p:spPr>
                <a:xfrm>
                  <a:off x="7679880" y="725760"/>
                  <a:ext cx="19368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9" name="Freeform 62"/>
                <p:cNvSpPr/>
                <p:nvPr/>
              </p:nvSpPr>
              <p:spPr>
                <a:xfrm>
                  <a:off x="7849800" y="73512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0" name="Freeform 63"/>
                <p:cNvSpPr/>
                <p:nvPr/>
              </p:nvSpPr>
              <p:spPr>
                <a:xfrm>
                  <a:off x="757512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1" name="Freeform 64"/>
                <p:cNvSpPr/>
                <p:nvPr/>
              </p:nvSpPr>
              <p:spPr>
                <a:xfrm>
                  <a:off x="7560720" y="52416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2" name="Freeform 65"/>
                <p:cNvSpPr/>
                <p:nvPr/>
              </p:nvSpPr>
              <p:spPr>
                <a:xfrm>
                  <a:off x="7576560" y="59076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3" name="Freeform 66"/>
                <p:cNvSpPr/>
                <p:nvPr/>
              </p:nvSpPr>
              <p:spPr>
                <a:xfrm>
                  <a:off x="7529040" y="5968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4" name="Freeform 67"/>
                <p:cNvSpPr/>
                <p:nvPr/>
              </p:nvSpPr>
              <p:spPr>
                <a:xfrm>
                  <a:off x="7870320" y="2257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5" name="Freeform 68"/>
                <p:cNvSpPr/>
                <p:nvPr/>
              </p:nvSpPr>
              <p:spPr>
                <a:xfrm>
                  <a:off x="7090920" y="174600"/>
                  <a:ext cx="695160" cy="24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00" y="142"/>
                      </a:moveTo>
                      <a:lnTo>
                        <a:pt x="21600" y="0"/>
                      </a:lnTo>
                      <a:cubicBezTo>
                        <a:pt x="21304" y="2132"/>
                        <a:pt x="21156" y="5968"/>
                        <a:pt x="20515" y="7674"/>
                      </a:cubicBezTo>
                      <a:cubicBezTo>
                        <a:pt x="20219" y="8526"/>
                        <a:pt x="19973" y="8953"/>
                        <a:pt x="19578" y="9663"/>
                      </a:cubicBezTo>
                      <a:cubicBezTo>
                        <a:pt x="19529" y="9805"/>
                        <a:pt x="19332" y="9947"/>
                        <a:pt x="19332" y="9947"/>
                      </a:cubicBezTo>
                      <a:cubicBezTo>
                        <a:pt x="18592" y="8953"/>
                        <a:pt x="18986" y="9663"/>
                        <a:pt x="18493" y="10374"/>
                      </a:cubicBezTo>
                      <a:cubicBezTo>
                        <a:pt x="18296" y="11653"/>
                        <a:pt x="18296" y="11795"/>
                        <a:pt x="17803" y="12505"/>
                      </a:cubicBezTo>
                      <a:cubicBezTo>
                        <a:pt x="17704" y="13074"/>
                        <a:pt x="17951" y="13216"/>
                        <a:pt x="17852" y="14068"/>
                      </a:cubicBezTo>
                      <a:cubicBezTo>
                        <a:pt x="17901" y="14495"/>
                        <a:pt x="17951" y="14921"/>
                        <a:pt x="17951" y="15205"/>
                      </a:cubicBezTo>
                      <a:cubicBezTo>
                        <a:pt x="18000" y="15489"/>
                        <a:pt x="18049" y="15774"/>
                        <a:pt x="18049" y="16058"/>
                      </a:cubicBezTo>
                      <a:cubicBezTo>
                        <a:pt x="18000" y="16342"/>
                        <a:pt x="17951" y="17053"/>
                        <a:pt x="17852" y="17337"/>
                      </a:cubicBezTo>
                      <a:cubicBezTo>
                        <a:pt x="17704" y="17479"/>
                        <a:pt x="17458" y="16911"/>
                        <a:pt x="17310" y="17053"/>
                      </a:cubicBezTo>
                      <a:cubicBezTo>
                        <a:pt x="17112" y="18332"/>
                        <a:pt x="17359" y="18047"/>
                        <a:pt x="16866" y="18332"/>
                      </a:cubicBezTo>
                      <a:cubicBezTo>
                        <a:pt x="16767" y="17479"/>
                        <a:pt x="17014" y="15774"/>
                        <a:pt x="17112" y="14921"/>
                      </a:cubicBezTo>
                      <a:cubicBezTo>
                        <a:pt x="17112" y="14211"/>
                        <a:pt x="16668" y="14495"/>
                        <a:pt x="16668" y="14211"/>
                      </a:cubicBezTo>
                      <a:cubicBezTo>
                        <a:pt x="16668" y="13926"/>
                        <a:pt x="16964" y="13500"/>
                        <a:pt x="16964" y="13216"/>
                      </a:cubicBezTo>
                      <a:cubicBezTo>
                        <a:pt x="16964" y="13074"/>
                        <a:pt x="16964" y="12647"/>
                        <a:pt x="16866" y="12647"/>
                      </a:cubicBezTo>
                      <a:cubicBezTo>
                        <a:pt x="16718" y="12647"/>
                        <a:pt x="15978" y="13358"/>
                        <a:pt x="15781" y="13358"/>
                      </a:cubicBezTo>
                      <a:cubicBezTo>
                        <a:pt x="15633" y="12221"/>
                        <a:pt x="16175" y="12505"/>
                        <a:pt x="15633" y="12079"/>
                      </a:cubicBezTo>
                      <a:cubicBezTo>
                        <a:pt x="15337" y="12932"/>
                        <a:pt x="15090" y="13216"/>
                        <a:pt x="14647" y="13358"/>
                      </a:cubicBezTo>
                      <a:cubicBezTo>
                        <a:pt x="14795" y="14779"/>
                        <a:pt x="15140" y="14353"/>
                        <a:pt x="15781" y="14637"/>
                      </a:cubicBezTo>
                      <a:cubicBezTo>
                        <a:pt x="15682" y="15489"/>
                        <a:pt x="15337" y="15774"/>
                        <a:pt x="15041" y="16626"/>
                      </a:cubicBezTo>
                      <a:lnTo>
                        <a:pt x="15337" y="17905"/>
                      </a:lnTo>
                      <a:lnTo>
                        <a:pt x="15534" y="19611"/>
                      </a:lnTo>
                      <a:lnTo>
                        <a:pt x="15238" y="19753"/>
                      </a:lnTo>
                      <a:lnTo>
                        <a:pt x="15485" y="20463"/>
                      </a:lnTo>
                      <a:lnTo>
                        <a:pt x="15140" y="21600"/>
                      </a:lnTo>
                      <a:lnTo>
                        <a:pt x="0" y="21174"/>
                      </a:lnTo>
                      <a:lnTo>
                        <a:pt x="3600" y="142"/>
                      </a:lnTo>
                      <a:close/>
                      <a:moveTo>
                        <a:pt x="3600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6" name="Freeform 69"/>
                <p:cNvSpPr/>
                <p:nvPr/>
              </p:nvSpPr>
              <p:spPr>
                <a:xfrm>
                  <a:off x="7787880" y="16524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7" name="Freeform 70"/>
                <p:cNvSpPr/>
                <p:nvPr/>
              </p:nvSpPr>
              <p:spPr>
                <a:xfrm>
                  <a:off x="7767000" y="243000"/>
                  <a:ext cx="9396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8" name="Freeform 71"/>
                <p:cNvSpPr/>
                <p:nvPr/>
              </p:nvSpPr>
              <p:spPr>
                <a:xfrm>
                  <a:off x="7667280" y="29052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9" name="Freeform 72"/>
                <p:cNvSpPr/>
                <p:nvPr/>
              </p:nvSpPr>
              <p:spPr>
                <a:xfrm>
                  <a:off x="703980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0" name="Freeform 73"/>
                <p:cNvSpPr/>
                <p:nvPr/>
              </p:nvSpPr>
              <p:spPr>
                <a:xfrm>
                  <a:off x="713844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1" name="Freeform 74"/>
                <p:cNvSpPr/>
                <p:nvPr/>
              </p:nvSpPr>
              <p:spPr>
                <a:xfrm>
                  <a:off x="7560720" y="4525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2" name="Freeform 75"/>
                <p:cNvSpPr/>
                <p:nvPr/>
              </p:nvSpPr>
              <p:spPr>
                <a:xfrm>
                  <a:off x="6165000" y="284400"/>
                  <a:ext cx="684360" cy="56016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3" name="Freeform 76"/>
                <p:cNvSpPr/>
                <p:nvPr/>
              </p:nvSpPr>
              <p:spPr>
                <a:xfrm>
                  <a:off x="6429960" y="554040"/>
                  <a:ext cx="25884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4" name="Freeform 77"/>
                <p:cNvSpPr/>
                <p:nvPr/>
              </p:nvSpPr>
              <p:spPr>
                <a:xfrm>
                  <a:off x="6888960" y="7574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5" name="Freeform 78"/>
                <p:cNvSpPr/>
                <p:nvPr/>
              </p:nvSpPr>
              <p:spPr>
                <a:xfrm>
                  <a:off x="62524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6" name="Freeform 79"/>
                <p:cNvSpPr/>
                <p:nvPr/>
              </p:nvSpPr>
              <p:spPr>
                <a:xfrm>
                  <a:off x="6725520" y="204840"/>
                  <a:ext cx="4665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7" name="Freeform 80"/>
                <p:cNvSpPr/>
                <p:nvPr/>
              </p:nvSpPr>
              <p:spPr>
                <a:xfrm>
                  <a:off x="6404760" y="174600"/>
                  <a:ext cx="87624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8" name="Freeform 81"/>
                <p:cNvSpPr/>
                <p:nvPr/>
              </p:nvSpPr>
              <p:spPr>
                <a:xfrm>
                  <a:off x="6598440" y="231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9" name="Freeform 82"/>
                <p:cNvSpPr/>
                <p:nvPr/>
              </p:nvSpPr>
              <p:spPr>
                <a:xfrm>
                  <a:off x="65746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50" name="Freeform 83"/>
                <p:cNvSpPr/>
                <p:nvPr/>
              </p:nvSpPr>
              <p:spPr>
                <a:xfrm>
                  <a:off x="6680880" y="3193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51" name="Freeform 84"/>
                <p:cNvSpPr/>
                <p:nvPr/>
              </p:nvSpPr>
              <p:spPr>
                <a:xfrm>
                  <a:off x="6757200" y="320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52" name="Freeform 85"/>
                <p:cNvSpPr/>
                <p:nvPr/>
              </p:nvSpPr>
              <p:spPr>
                <a:xfrm>
                  <a:off x="6528600" y="25560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253" name="Group 109"/>
            <p:cNvGrpSpPr/>
            <p:nvPr/>
          </p:nvGrpSpPr>
          <p:grpSpPr>
            <a:xfrm>
              <a:off x="1266840" y="176400"/>
              <a:ext cx="7464240" cy="663480"/>
              <a:chOff x="1266840" y="176400"/>
              <a:chExt cx="7464240" cy="663480"/>
            </a:xfrm>
          </p:grpSpPr>
          <p:sp>
            <p:nvSpPr>
              <p:cNvPr id="254" name="Line 88"/>
              <p:cNvSpPr/>
              <p:nvPr/>
            </p:nvSpPr>
            <p:spPr>
              <a:xfrm>
                <a:off x="1266840" y="527400"/>
                <a:ext cx="7464240" cy="14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5" name="Line 89"/>
              <p:cNvSpPr/>
              <p:nvPr/>
            </p:nvSpPr>
            <p:spPr>
              <a:xfrm>
                <a:off x="16282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6" name="Line 90"/>
              <p:cNvSpPr/>
              <p:nvPr/>
            </p:nvSpPr>
            <p:spPr>
              <a:xfrm>
                <a:off x="19904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7" name="Line 91"/>
              <p:cNvSpPr/>
              <p:nvPr/>
            </p:nvSpPr>
            <p:spPr>
              <a:xfrm>
                <a:off x="23522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8" name="Line 92"/>
              <p:cNvSpPr/>
              <p:nvPr/>
            </p:nvSpPr>
            <p:spPr>
              <a:xfrm>
                <a:off x="27144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9" name="Line 93"/>
              <p:cNvSpPr/>
              <p:nvPr/>
            </p:nvSpPr>
            <p:spPr>
              <a:xfrm>
                <a:off x="30762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0" name="Line 94"/>
              <p:cNvSpPr/>
              <p:nvPr/>
            </p:nvSpPr>
            <p:spPr>
              <a:xfrm>
                <a:off x="34383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1" name="Line 95"/>
              <p:cNvSpPr/>
              <p:nvPr/>
            </p:nvSpPr>
            <p:spPr>
              <a:xfrm>
                <a:off x="38001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2" name="Line 96"/>
              <p:cNvSpPr/>
              <p:nvPr/>
            </p:nvSpPr>
            <p:spPr>
              <a:xfrm>
                <a:off x="41619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3" name="Line 97"/>
              <p:cNvSpPr/>
              <p:nvPr/>
            </p:nvSpPr>
            <p:spPr>
              <a:xfrm>
                <a:off x="452412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4" name="Line 98"/>
              <p:cNvSpPr/>
              <p:nvPr/>
            </p:nvSpPr>
            <p:spPr>
              <a:xfrm>
                <a:off x="488592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5" name="Line 99"/>
              <p:cNvSpPr/>
              <p:nvPr/>
            </p:nvSpPr>
            <p:spPr>
              <a:xfrm>
                <a:off x="52480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6" name="Line 100"/>
              <p:cNvSpPr/>
              <p:nvPr/>
            </p:nvSpPr>
            <p:spPr>
              <a:xfrm>
                <a:off x="56098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7" name="Line 101"/>
              <p:cNvSpPr/>
              <p:nvPr/>
            </p:nvSpPr>
            <p:spPr>
              <a:xfrm>
                <a:off x="59716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8" name="Line 102"/>
              <p:cNvSpPr/>
              <p:nvPr/>
            </p:nvSpPr>
            <p:spPr>
              <a:xfrm>
                <a:off x="63338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9" name="Line 103"/>
              <p:cNvSpPr/>
              <p:nvPr/>
            </p:nvSpPr>
            <p:spPr>
              <a:xfrm>
                <a:off x="66956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0" name="Line 104"/>
              <p:cNvSpPr/>
              <p:nvPr/>
            </p:nvSpPr>
            <p:spPr>
              <a:xfrm>
                <a:off x="70578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1" name="Line 105"/>
              <p:cNvSpPr/>
              <p:nvPr/>
            </p:nvSpPr>
            <p:spPr>
              <a:xfrm>
                <a:off x="74196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2" name="Line 106"/>
              <p:cNvSpPr/>
              <p:nvPr/>
            </p:nvSpPr>
            <p:spPr>
              <a:xfrm>
                <a:off x="77817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3" name="Line 107"/>
              <p:cNvSpPr/>
              <p:nvPr/>
            </p:nvSpPr>
            <p:spPr>
              <a:xfrm>
                <a:off x="81435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4" name="Line 108"/>
              <p:cNvSpPr/>
              <p:nvPr/>
            </p:nvSpPr>
            <p:spPr>
              <a:xfrm>
                <a:off x="85053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75" name="Group 135"/>
            <p:cNvGrpSpPr/>
            <p:nvPr/>
          </p:nvGrpSpPr>
          <p:grpSpPr>
            <a:xfrm>
              <a:off x="1917720" y="172800"/>
              <a:ext cx="5865840" cy="671760"/>
              <a:chOff x="1917720" y="172800"/>
              <a:chExt cx="5865840" cy="671760"/>
            </a:xfrm>
          </p:grpSpPr>
          <p:sp>
            <p:nvSpPr>
              <p:cNvPr id="276" name="Line 110"/>
              <p:cNvSpPr/>
              <p:nvPr/>
            </p:nvSpPr>
            <p:spPr>
              <a:xfrm>
                <a:off x="4524480" y="174600"/>
                <a:ext cx="1440" cy="2257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7" name="Line 111"/>
              <p:cNvSpPr/>
              <p:nvPr/>
            </p:nvSpPr>
            <p:spPr>
              <a:xfrm>
                <a:off x="4718160" y="527040"/>
                <a:ext cx="1108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8" name="Line 112"/>
              <p:cNvSpPr/>
              <p:nvPr/>
            </p:nvSpPr>
            <p:spPr>
              <a:xfrm>
                <a:off x="4886280" y="555840"/>
                <a:ext cx="180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9" name="Line 113"/>
              <p:cNvSpPr/>
              <p:nvPr/>
            </p:nvSpPr>
            <p:spPr>
              <a:xfrm>
                <a:off x="5248440" y="714600"/>
                <a:ext cx="1440" cy="125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0" name="Line 114"/>
              <p:cNvSpPr/>
              <p:nvPr/>
            </p:nvSpPr>
            <p:spPr>
              <a:xfrm>
                <a:off x="6334200" y="352440"/>
                <a:ext cx="1440" cy="285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1" name="Line 115"/>
              <p:cNvSpPr/>
              <p:nvPr/>
            </p:nvSpPr>
            <p:spPr>
              <a:xfrm>
                <a:off x="618480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2" name="Line 116"/>
              <p:cNvSpPr/>
              <p:nvPr/>
            </p:nvSpPr>
            <p:spPr>
              <a:xfrm>
                <a:off x="6696000" y="374760"/>
                <a:ext cx="180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3" name="Line 117"/>
              <p:cNvSpPr/>
              <p:nvPr/>
            </p:nvSpPr>
            <p:spPr>
              <a:xfrm flipV="1">
                <a:off x="6699240" y="177480"/>
                <a:ext cx="1440" cy="79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4" name="Line 118"/>
              <p:cNvSpPr/>
              <p:nvPr/>
            </p:nvSpPr>
            <p:spPr>
              <a:xfrm flipV="1">
                <a:off x="7058160" y="174240"/>
                <a:ext cx="1440" cy="2890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5" name="Line 119"/>
              <p:cNvSpPr/>
              <p:nvPr/>
            </p:nvSpPr>
            <p:spPr>
              <a:xfrm flipH="1">
                <a:off x="7296120" y="527040"/>
                <a:ext cx="1238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6" name="Line 120"/>
              <p:cNvSpPr/>
              <p:nvPr/>
            </p:nvSpPr>
            <p:spPr>
              <a:xfrm flipH="1">
                <a:off x="7086240" y="527040"/>
                <a:ext cx="982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7" name="Line 121"/>
              <p:cNvSpPr/>
              <p:nvPr/>
            </p:nvSpPr>
            <p:spPr>
              <a:xfrm flipV="1">
                <a:off x="7419240" y="174240"/>
                <a:ext cx="1800" cy="4287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8" name="Line 122"/>
              <p:cNvSpPr/>
              <p:nvPr/>
            </p:nvSpPr>
            <p:spPr>
              <a:xfrm>
                <a:off x="7782120" y="746280"/>
                <a:ext cx="1440" cy="54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9" name="Line 123"/>
              <p:cNvSpPr/>
              <p:nvPr/>
            </p:nvSpPr>
            <p:spPr>
              <a:xfrm>
                <a:off x="3438720" y="181080"/>
                <a:ext cx="144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0" name="Line 124"/>
              <p:cNvSpPr/>
              <p:nvPr/>
            </p:nvSpPr>
            <p:spPr>
              <a:xfrm>
                <a:off x="3076560" y="176400"/>
                <a:ext cx="1800" cy="5349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1" name="Line 125"/>
              <p:cNvSpPr/>
              <p:nvPr/>
            </p:nvSpPr>
            <p:spPr>
              <a:xfrm flipH="1">
                <a:off x="3035160" y="527040"/>
                <a:ext cx="1080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2" name="Line 126"/>
              <p:cNvSpPr/>
              <p:nvPr/>
            </p:nvSpPr>
            <p:spPr>
              <a:xfrm>
                <a:off x="2822760" y="527040"/>
                <a:ext cx="950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3" name="Line 127"/>
              <p:cNvSpPr/>
              <p:nvPr/>
            </p:nvSpPr>
            <p:spPr>
              <a:xfrm flipH="1">
                <a:off x="2504880" y="527040"/>
                <a:ext cx="12996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4" name="Line 128"/>
              <p:cNvSpPr/>
              <p:nvPr/>
            </p:nvSpPr>
            <p:spPr>
              <a:xfrm>
                <a:off x="191772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5" name="Line 129"/>
              <p:cNvSpPr/>
              <p:nvPr/>
            </p:nvSpPr>
            <p:spPr>
              <a:xfrm>
                <a:off x="2349360" y="371520"/>
                <a:ext cx="1800" cy="473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6" name="Line 130"/>
              <p:cNvSpPr/>
              <p:nvPr/>
            </p:nvSpPr>
            <p:spPr>
              <a:xfrm>
                <a:off x="1990800" y="400320"/>
                <a:ext cx="1440" cy="247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7" name="Line 131"/>
              <p:cNvSpPr/>
              <p:nvPr/>
            </p:nvSpPr>
            <p:spPr>
              <a:xfrm flipH="1" flipV="1">
                <a:off x="2352240" y="172800"/>
                <a:ext cx="1800" cy="42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8" name="Line 132"/>
              <p:cNvSpPr/>
              <p:nvPr/>
            </p:nvSpPr>
            <p:spPr>
              <a:xfrm>
                <a:off x="2714760" y="285840"/>
                <a:ext cx="144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9" name="Line 133"/>
              <p:cNvSpPr/>
              <p:nvPr/>
            </p:nvSpPr>
            <p:spPr>
              <a:xfrm flipV="1">
                <a:off x="2714760" y="176040"/>
                <a:ext cx="1440" cy="3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0" name="Line 134"/>
              <p:cNvSpPr/>
              <p:nvPr/>
            </p:nvSpPr>
            <p:spPr>
              <a:xfrm>
                <a:off x="6777000" y="525600"/>
                <a:ext cx="127080" cy="14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8701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	</a:t>
            </a: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imes New Roman Italic"/>
              </a:rPr>
              <a:t>Four Stages of Life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302" name="Rectangle 138"/>
          <p:cNvSpPr/>
          <p:nvPr/>
        </p:nvSpPr>
        <p:spPr>
          <a:xfrm>
            <a:off x="533520" y="2286000"/>
            <a:ext cx="7937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One:  Student st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Two:  Househol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Three:  Forest-dweller --after the birth of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 grandchil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Four:  Sannyasin - wondering asc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3" name="Picture 139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614600" cy="1408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0" descr=""/>
          <p:cNvPicPr/>
          <p:nvPr/>
        </p:nvPicPr>
        <p:blipFill>
          <a:blip r:embed="rId3"/>
          <a:stretch/>
        </p:blipFill>
        <p:spPr>
          <a:xfrm>
            <a:off x="6019920" y="2971800"/>
            <a:ext cx="2241360" cy="144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1" descr=""/>
          <p:cNvPicPr/>
          <p:nvPr/>
        </p:nvPicPr>
        <p:blipFill>
          <a:blip r:embed="rId4"/>
          <a:stretch/>
        </p:blipFill>
        <p:spPr>
          <a:xfrm>
            <a:off x="3352680" y="4876920"/>
            <a:ext cx="1525680" cy="1168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2" descr=""/>
          <p:cNvPicPr/>
          <p:nvPr/>
        </p:nvPicPr>
        <p:blipFill>
          <a:blip r:embed="rId5"/>
          <a:stretch/>
        </p:blipFill>
        <p:spPr>
          <a:xfrm>
            <a:off x="6164280" y="5105520"/>
            <a:ext cx="13590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36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309" name="Freeform 2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400"/>
                  </a:move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  <a:cubicBezTo>
                    <a:pt x="717" y="17250"/>
                    <a:pt x="753" y="3050"/>
                    <a:pt x="0" y="0"/>
                  </a:cubicBezTo>
                  <a:cubicBezTo>
                    <a:pt x="10800" y="0"/>
                    <a:pt x="21600" y="0"/>
                    <a:pt x="21600" y="0"/>
                  </a:cubicBezTo>
                  <a:lnTo>
                    <a:pt x="21600" y="2400"/>
                  </a:lnTo>
                  <a:close/>
                  <a:moveTo>
                    <a:pt x="21600" y="2400"/>
                  </a:moveTo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10" name="Group 87"/>
            <p:cNvGrpSpPr/>
            <p:nvPr/>
          </p:nvGrpSpPr>
          <p:grpSpPr>
            <a:xfrm>
              <a:off x="1897200" y="165240"/>
              <a:ext cx="6031800" cy="681120"/>
              <a:chOff x="1897200" y="165240"/>
              <a:chExt cx="6031800" cy="681120"/>
            </a:xfrm>
          </p:grpSpPr>
          <p:grpSp>
            <p:nvGrpSpPr>
              <p:cNvPr id="311" name="Group 50"/>
              <p:cNvGrpSpPr/>
              <p:nvPr/>
            </p:nvGrpSpPr>
            <p:grpSpPr>
              <a:xfrm>
                <a:off x="1897200" y="166680"/>
                <a:ext cx="3505680" cy="677880"/>
                <a:chOff x="1897200" y="166680"/>
                <a:chExt cx="3505680" cy="677880"/>
              </a:xfrm>
            </p:grpSpPr>
            <p:sp>
              <p:nvSpPr>
                <p:cNvPr id="312" name="Freeform 3"/>
                <p:cNvSpPr/>
                <p:nvPr/>
              </p:nvSpPr>
              <p:spPr>
                <a:xfrm>
                  <a:off x="3641760" y="7621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3" name="Freeform 4"/>
                <p:cNvSpPr/>
                <p:nvPr/>
              </p:nvSpPr>
              <p:spPr>
                <a:xfrm>
                  <a:off x="3327480" y="79200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4" name="Freeform 5"/>
                <p:cNvSpPr/>
                <p:nvPr/>
              </p:nvSpPr>
              <p:spPr>
                <a:xfrm>
                  <a:off x="3279960" y="79056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5" name="Freeform 6"/>
                <p:cNvSpPr/>
                <p:nvPr/>
              </p:nvSpPr>
              <p:spPr>
                <a:xfrm>
                  <a:off x="3030840" y="652320"/>
                  <a:ext cx="237960" cy="14616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6" name="Freeform 7"/>
                <p:cNvSpPr/>
                <p:nvPr/>
              </p:nvSpPr>
              <p:spPr>
                <a:xfrm>
                  <a:off x="3176640" y="642960"/>
                  <a:ext cx="10332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7" name="Freeform 8"/>
                <p:cNvSpPr/>
                <p:nvPr/>
              </p:nvSpPr>
              <p:spPr>
                <a:xfrm>
                  <a:off x="327996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8" name="Freeform 9"/>
                <p:cNvSpPr/>
                <p:nvPr/>
              </p:nvSpPr>
              <p:spPr>
                <a:xfrm>
                  <a:off x="3276720" y="717480"/>
                  <a:ext cx="4464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9" name="Freeform 10"/>
                <p:cNvSpPr/>
                <p:nvPr/>
              </p:nvSpPr>
              <p:spPr>
                <a:xfrm>
                  <a:off x="3362400" y="68724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0" name="Freeform 11"/>
                <p:cNvSpPr/>
                <p:nvPr/>
              </p:nvSpPr>
              <p:spPr>
                <a:xfrm>
                  <a:off x="3368880" y="736560"/>
                  <a:ext cx="31680" cy="1116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1" name="Freeform 12"/>
                <p:cNvSpPr/>
                <p:nvPr/>
              </p:nvSpPr>
              <p:spPr>
                <a:xfrm>
                  <a:off x="3402000" y="7128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2" name="Freeform 13"/>
                <p:cNvSpPr/>
                <p:nvPr/>
              </p:nvSpPr>
              <p:spPr>
                <a:xfrm>
                  <a:off x="3413160" y="725400"/>
                  <a:ext cx="19224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3" name="Freeform 14"/>
                <p:cNvSpPr/>
                <p:nvPr/>
              </p:nvSpPr>
              <p:spPr>
                <a:xfrm>
                  <a:off x="3581640" y="73512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4" name="Freeform 15"/>
                <p:cNvSpPr/>
                <p:nvPr/>
              </p:nvSpPr>
              <p:spPr>
                <a:xfrm>
                  <a:off x="3762720" y="71136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3051" h="21600">
                      <a:moveTo>
                        <a:pt x="1490" y="13745"/>
                      </a:moveTo>
                      <a:cubicBezTo>
                        <a:pt x="-1002" y="5891"/>
                        <a:pt x="-1002" y="2945"/>
                        <a:pt x="6475" y="0"/>
                      </a:cubicBezTo>
                      <a:cubicBezTo>
                        <a:pt x="16444" y="3927"/>
                        <a:pt x="13952" y="15709"/>
                        <a:pt x="6475" y="21600"/>
                      </a:cubicBezTo>
                      <a:cubicBezTo>
                        <a:pt x="-5156" y="16691"/>
                        <a:pt x="5644" y="2945"/>
                        <a:pt x="1490" y="13745"/>
                      </a:cubicBezTo>
                      <a:close/>
                      <a:moveTo>
                        <a:pt x="1490" y="137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5" name="Freeform 16"/>
                <p:cNvSpPr/>
                <p:nvPr/>
              </p:nvSpPr>
              <p:spPr>
                <a:xfrm>
                  <a:off x="330840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6" name="Freeform 17"/>
                <p:cNvSpPr/>
                <p:nvPr/>
              </p:nvSpPr>
              <p:spPr>
                <a:xfrm>
                  <a:off x="3292560" y="523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7" name="Freeform 18"/>
                <p:cNvSpPr/>
                <p:nvPr/>
              </p:nvSpPr>
              <p:spPr>
                <a:xfrm>
                  <a:off x="3308400" y="59040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8" name="Freeform 19"/>
                <p:cNvSpPr/>
                <p:nvPr/>
              </p:nvSpPr>
              <p:spPr>
                <a:xfrm>
                  <a:off x="3262320" y="596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9" name="Freeform 20"/>
                <p:cNvSpPr/>
                <p:nvPr/>
              </p:nvSpPr>
              <p:spPr>
                <a:xfrm>
                  <a:off x="4928040" y="56052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963" y="21523"/>
                      </a:moveTo>
                      <a:cubicBezTo>
                        <a:pt x="1468" y="21600"/>
                        <a:pt x="1146" y="19448"/>
                        <a:pt x="1101" y="19217"/>
                      </a:cubicBezTo>
                      <a:cubicBezTo>
                        <a:pt x="1055" y="19063"/>
                        <a:pt x="1009" y="18833"/>
                        <a:pt x="1009" y="18833"/>
                      </a:cubicBezTo>
                      <a:cubicBezTo>
                        <a:pt x="963" y="18679"/>
                        <a:pt x="917" y="16988"/>
                        <a:pt x="734" y="16757"/>
                      </a:cubicBezTo>
                      <a:cubicBezTo>
                        <a:pt x="596" y="16604"/>
                        <a:pt x="183" y="16527"/>
                        <a:pt x="183" y="16527"/>
                      </a:cubicBezTo>
                      <a:cubicBezTo>
                        <a:pt x="0" y="15912"/>
                        <a:pt x="138" y="15374"/>
                        <a:pt x="0" y="14682"/>
                      </a:cubicBezTo>
                      <a:cubicBezTo>
                        <a:pt x="92" y="14221"/>
                        <a:pt x="321" y="14298"/>
                        <a:pt x="550" y="13836"/>
                      </a:cubicBezTo>
                      <a:cubicBezTo>
                        <a:pt x="642" y="13221"/>
                        <a:pt x="642" y="12991"/>
                        <a:pt x="275" y="12683"/>
                      </a:cubicBezTo>
                      <a:cubicBezTo>
                        <a:pt x="183" y="12530"/>
                        <a:pt x="92" y="12453"/>
                        <a:pt x="92" y="12299"/>
                      </a:cubicBezTo>
                      <a:cubicBezTo>
                        <a:pt x="92" y="11530"/>
                        <a:pt x="734" y="9455"/>
                        <a:pt x="1284" y="9224"/>
                      </a:cubicBezTo>
                      <a:cubicBezTo>
                        <a:pt x="1468" y="8532"/>
                        <a:pt x="1834" y="8071"/>
                        <a:pt x="2018" y="7379"/>
                      </a:cubicBezTo>
                      <a:cubicBezTo>
                        <a:pt x="1789" y="6380"/>
                        <a:pt x="1743" y="6534"/>
                        <a:pt x="1926" y="5381"/>
                      </a:cubicBezTo>
                      <a:cubicBezTo>
                        <a:pt x="1743" y="4612"/>
                        <a:pt x="1559" y="3690"/>
                        <a:pt x="1101" y="3305"/>
                      </a:cubicBezTo>
                      <a:cubicBezTo>
                        <a:pt x="825" y="2767"/>
                        <a:pt x="459" y="2844"/>
                        <a:pt x="917" y="2460"/>
                      </a:cubicBezTo>
                      <a:cubicBezTo>
                        <a:pt x="1238" y="2614"/>
                        <a:pt x="1192" y="2460"/>
                        <a:pt x="1192" y="2767"/>
                      </a:cubicBezTo>
                      <a:cubicBezTo>
                        <a:pt x="1559" y="3152"/>
                        <a:pt x="1789" y="2998"/>
                        <a:pt x="2201" y="2690"/>
                      </a:cubicBezTo>
                      <a:cubicBezTo>
                        <a:pt x="2064" y="1691"/>
                        <a:pt x="2201" y="1076"/>
                        <a:pt x="2935" y="846"/>
                      </a:cubicBezTo>
                      <a:cubicBezTo>
                        <a:pt x="3256" y="615"/>
                        <a:pt x="3439" y="231"/>
                        <a:pt x="3761" y="0"/>
                      </a:cubicBezTo>
                      <a:cubicBezTo>
                        <a:pt x="3852" y="77"/>
                        <a:pt x="4036" y="0"/>
                        <a:pt x="4036" y="154"/>
                      </a:cubicBezTo>
                      <a:cubicBezTo>
                        <a:pt x="4127" y="922"/>
                        <a:pt x="3439" y="999"/>
                        <a:pt x="4219" y="692"/>
                      </a:cubicBezTo>
                      <a:cubicBezTo>
                        <a:pt x="4311" y="615"/>
                        <a:pt x="4403" y="384"/>
                        <a:pt x="4494" y="384"/>
                      </a:cubicBezTo>
                      <a:cubicBezTo>
                        <a:pt x="4678" y="307"/>
                        <a:pt x="4861" y="538"/>
                        <a:pt x="5045" y="615"/>
                      </a:cubicBezTo>
                      <a:cubicBezTo>
                        <a:pt x="5136" y="615"/>
                        <a:pt x="5320" y="692"/>
                        <a:pt x="5320" y="692"/>
                      </a:cubicBezTo>
                      <a:cubicBezTo>
                        <a:pt x="5595" y="1230"/>
                        <a:pt x="5916" y="999"/>
                        <a:pt x="6466" y="1076"/>
                      </a:cubicBezTo>
                      <a:cubicBezTo>
                        <a:pt x="6558" y="1614"/>
                        <a:pt x="6741" y="1691"/>
                        <a:pt x="7108" y="1845"/>
                      </a:cubicBezTo>
                      <a:cubicBezTo>
                        <a:pt x="7292" y="1691"/>
                        <a:pt x="7475" y="1537"/>
                        <a:pt x="7659" y="1307"/>
                      </a:cubicBezTo>
                      <a:cubicBezTo>
                        <a:pt x="7750" y="1230"/>
                        <a:pt x="7934" y="1076"/>
                        <a:pt x="7934" y="1076"/>
                      </a:cubicBezTo>
                      <a:cubicBezTo>
                        <a:pt x="8943" y="1999"/>
                        <a:pt x="8025" y="1537"/>
                        <a:pt x="8943" y="1076"/>
                      </a:cubicBezTo>
                      <a:cubicBezTo>
                        <a:pt x="9493" y="1307"/>
                        <a:pt x="9218" y="1999"/>
                        <a:pt x="9676" y="2460"/>
                      </a:cubicBezTo>
                      <a:cubicBezTo>
                        <a:pt x="9814" y="2921"/>
                        <a:pt x="10273" y="4228"/>
                        <a:pt x="10594" y="4535"/>
                      </a:cubicBezTo>
                      <a:cubicBezTo>
                        <a:pt x="11052" y="5381"/>
                        <a:pt x="10777" y="5150"/>
                        <a:pt x="11236" y="5381"/>
                      </a:cubicBezTo>
                      <a:cubicBezTo>
                        <a:pt x="11419" y="5304"/>
                        <a:pt x="11603" y="5304"/>
                        <a:pt x="11786" y="5227"/>
                      </a:cubicBezTo>
                      <a:cubicBezTo>
                        <a:pt x="11969" y="5150"/>
                        <a:pt x="12382" y="4996"/>
                        <a:pt x="12382" y="4996"/>
                      </a:cubicBezTo>
                      <a:cubicBezTo>
                        <a:pt x="12749" y="5073"/>
                        <a:pt x="12978" y="5150"/>
                        <a:pt x="13299" y="5458"/>
                      </a:cubicBezTo>
                      <a:cubicBezTo>
                        <a:pt x="13941" y="6764"/>
                        <a:pt x="12932" y="4766"/>
                        <a:pt x="13758" y="6226"/>
                      </a:cubicBezTo>
                      <a:cubicBezTo>
                        <a:pt x="13850" y="6457"/>
                        <a:pt x="14125" y="6918"/>
                        <a:pt x="14125" y="6918"/>
                      </a:cubicBezTo>
                      <a:cubicBezTo>
                        <a:pt x="14262" y="7533"/>
                        <a:pt x="14446" y="7917"/>
                        <a:pt x="14583" y="8532"/>
                      </a:cubicBezTo>
                      <a:cubicBezTo>
                        <a:pt x="14629" y="8763"/>
                        <a:pt x="14721" y="8994"/>
                        <a:pt x="14767" y="9224"/>
                      </a:cubicBezTo>
                      <a:cubicBezTo>
                        <a:pt x="14813" y="9378"/>
                        <a:pt x="14859" y="9609"/>
                        <a:pt x="14859" y="9609"/>
                      </a:cubicBezTo>
                      <a:cubicBezTo>
                        <a:pt x="14721" y="10147"/>
                        <a:pt x="14354" y="10300"/>
                        <a:pt x="14217" y="10915"/>
                      </a:cubicBezTo>
                      <a:cubicBezTo>
                        <a:pt x="14354" y="11607"/>
                        <a:pt x="14538" y="11223"/>
                        <a:pt x="14767" y="10838"/>
                      </a:cubicBezTo>
                      <a:cubicBezTo>
                        <a:pt x="15638" y="10992"/>
                        <a:pt x="15546" y="10915"/>
                        <a:pt x="15684" y="11915"/>
                      </a:cubicBezTo>
                      <a:cubicBezTo>
                        <a:pt x="16097" y="11530"/>
                        <a:pt x="16280" y="11684"/>
                        <a:pt x="16693" y="12068"/>
                      </a:cubicBezTo>
                      <a:cubicBezTo>
                        <a:pt x="16922" y="12453"/>
                        <a:pt x="17060" y="12760"/>
                        <a:pt x="17427" y="12914"/>
                      </a:cubicBezTo>
                      <a:cubicBezTo>
                        <a:pt x="17473" y="12991"/>
                        <a:pt x="17564" y="13144"/>
                        <a:pt x="17518" y="13221"/>
                      </a:cubicBezTo>
                      <a:cubicBezTo>
                        <a:pt x="17427" y="13529"/>
                        <a:pt x="16876" y="13221"/>
                        <a:pt x="17518" y="13529"/>
                      </a:cubicBezTo>
                      <a:cubicBezTo>
                        <a:pt x="17702" y="13452"/>
                        <a:pt x="17885" y="13298"/>
                        <a:pt x="18069" y="13221"/>
                      </a:cubicBezTo>
                      <a:cubicBezTo>
                        <a:pt x="18161" y="13221"/>
                        <a:pt x="18344" y="13144"/>
                        <a:pt x="18344" y="13144"/>
                      </a:cubicBezTo>
                      <a:cubicBezTo>
                        <a:pt x="18940" y="13606"/>
                        <a:pt x="19582" y="13759"/>
                        <a:pt x="20132" y="14221"/>
                      </a:cubicBezTo>
                      <a:cubicBezTo>
                        <a:pt x="20224" y="14605"/>
                        <a:pt x="20408" y="14912"/>
                        <a:pt x="20499" y="15297"/>
                      </a:cubicBezTo>
                      <a:cubicBezTo>
                        <a:pt x="20775" y="15220"/>
                        <a:pt x="21096" y="14989"/>
                        <a:pt x="21325" y="15451"/>
                      </a:cubicBezTo>
                      <a:cubicBezTo>
                        <a:pt x="21462" y="15758"/>
                        <a:pt x="21600" y="16527"/>
                        <a:pt x="21600" y="16527"/>
                      </a:cubicBezTo>
                      <a:cubicBezTo>
                        <a:pt x="21462" y="17757"/>
                        <a:pt x="21508" y="19063"/>
                        <a:pt x="20683" y="19832"/>
                      </a:cubicBezTo>
                      <a:cubicBezTo>
                        <a:pt x="20499" y="20140"/>
                        <a:pt x="20041" y="21139"/>
                        <a:pt x="19949" y="21600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0" name="Freeform 21"/>
                <p:cNvSpPr/>
                <p:nvPr/>
              </p:nvSpPr>
              <p:spPr>
                <a:xfrm>
                  <a:off x="4304160" y="168120"/>
                  <a:ext cx="647640" cy="446400"/>
                </a:xfrm>
                <a:custGeom>
                  <a:avLst/>
                  <a:gdLst/>
                  <a:ahLst/>
                  <a:rect l="l" t="t" r="r" b="b"/>
                  <a:pathLst>
                    <a:path w="21006" h="21465">
                      <a:moveTo>
                        <a:pt x="1623" y="922"/>
                      </a:moveTo>
                      <a:lnTo>
                        <a:pt x="8735" y="103"/>
                      </a:lnTo>
                      <a:cubicBezTo>
                        <a:pt x="10733" y="512"/>
                        <a:pt x="10030" y="-51"/>
                        <a:pt x="10228" y="1331"/>
                      </a:cubicBezTo>
                      <a:cubicBezTo>
                        <a:pt x="10623" y="1177"/>
                        <a:pt x="10447" y="973"/>
                        <a:pt x="10843" y="819"/>
                      </a:cubicBezTo>
                      <a:cubicBezTo>
                        <a:pt x="11018" y="896"/>
                        <a:pt x="11172" y="1126"/>
                        <a:pt x="11369" y="1126"/>
                      </a:cubicBezTo>
                      <a:cubicBezTo>
                        <a:pt x="11545" y="1126"/>
                        <a:pt x="11896" y="922"/>
                        <a:pt x="11896" y="922"/>
                      </a:cubicBezTo>
                      <a:cubicBezTo>
                        <a:pt x="12028" y="1357"/>
                        <a:pt x="11940" y="1485"/>
                        <a:pt x="11721" y="1843"/>
                      </a:cubicBezTo>
                      <a:cubicBezTo>
                        <a:pt x="12006" y="2867"/>
                        <a:pt x="11896" y="2559"/>
                        <a:pt x="12511" y="3276"/>
                      </a:cubicBezTo>
                      <a:cubicBezTo>
                        <a:pt x="12643" y="3737"/>
                        <a:pt x="12774" y="3737"/>
                        <a:pt x="13125" y="3481"/>
                      </a:cubicBezTo>
                      <a:cubicBezTo>
                        <a:pt x="12994" y="2994"/>
                        <a:pt x="12862" y="2687"/>
                        <a:pt x="12686" y="2252"/>
                      </a:cubicBezTo>
                      <a:cubicBezTo>
                        <a:pt x="12621" y="2048"/>
                        <a:pt x="12511" y="1638"/>
                        <a:pt x="12511" y="1638"/>
                      </a:cubicBezTo>
                      <a:cubicBezTo>
                        <a:pt x="12664" y="1075"/>
                        <a:pt x="12928" y="1382"/>
                        <a:pt x="13125" y="1740"/>
                      </a:cubicBezTo>
                      <a:cubicBezTo>
                        <a:pt x="13191" y="2150"/>
                        <a:pt x="13169" y="2943"/>
                        <a:pt x="13564" y="2252"/>
                      </a:cubicBezTo>
                      <a:cubicBezTo>
                        <a:pt x="14047" y="2431"/>
                        <a:pt x="14003" y="2611"/>
                        <a:pt x="13916" y="3174"/>
                      </a:cubicBezTo>
                      <a:cubicBezTo>
                        <a:pt x="14091" y="3788"/>
                        <a:pt x="14421" y="3558"/>
                        <a:pt x="14794" y="3276"/>
                      </a:cubicBezTo>
                      <a:cubicBezTo>
                        <a:pt x="14947" y="2713"/>
                        <a:pt x="14596" y="3122"/>
                        <a:pt x="14794" y="2457"/>
                      </a:cubicBezTo>
                      <a:cubicBezTo>
                        <a:pt x="14816" y="2355"/>
                        <a:pt x="14969" y="2406"/>
                        <a:pt x="15057" y="2355"/>
                      </a:cubicBezTo>
                      <a:cubicBezTo>
                        <a:pt x="15145" y="2304"/>
                        <a:pt x="15233" y="2227"/>
                        <a:pt x="15321" y="2150"/>
                      </a:cubicBezTo>
                      <a:cubicBezTo>
                        <a:pt x="15562" y="1331"/>
                        <a:pt x="14925" y="1331"/>
                        <a:pt x="16111" y="1126"/>
                      </a:cubicBezTo>
                      <a:cubicBezTo>
                        <a:pt x="16243" y="640"/>
                        <a:pt x="16089" y="179"/>
                        <a:pt x="16550" y="0"/>
                      </a:cubicBezTo>
                      <a:cubicBezTo>
                        <a:pt x="17121" y="231"/>
                        <a:pt x="16879" y="922"/>
                        <a:pt x="17428" y="1126"/>
                      </a:cubicBezTo>
                      <a:cubicBezTo>
                        <a:pt x="18064" y="870"/>
                        <a:pt x="17494" y="1561"/>
                        <a:pt x="17340" y="1740"/>
                      </a:cubicBezTo>
                      <a:cubicBezTo>
                        <a:pt x="17143" y="2406"/>
                        <a:pt x="17099" y="2406"/>
                        <a:pt x="17428" y="2969"/>
                      </a:cubicBezTo>
                      <a:cubicBezTo>
                        <a:pt x="17406" y="3071"/>
                        <a:pt x="17406" y="3199"/>
                        <a:pt x="17340" y="3276"/>
                      </a:cubicBezTo>
                      <a:cubicBezTo>
                        <a:pt x="17252" y="3353"/>
                        <a:pt x="17033" y="3250"/>
                        <a:pt x="16989" y="3378"/>
                      </a:cubicBezTo>
                      <a:cubicBezTo>
                        <a:pt x="16945" y="3583"/>
                        <a:pt x="17164" y="3993"/>
                        <a:pt x="17164" y="3993"/>
                      </a:cubicBezTo>
                      <a:cubicBezTo>
                        <a:pt x="17077" y="4069"/>
                        <a:pt x="17011" y="4172"/>
                        <a:pt x="16901" y="4197"/>
                      </a:cubicBezTo>
                      <a:cubicBezTo>
                        <a:pt x="16813" y="4223"/>
                        <a:pt x="16703" y="4018"/>
                        <a:pt x="16638" y="4095"/>
                      </a:cubicBezTo>
                      <a:cubicBezTo>
                        <a:pt x="16462" y="4300"/>
                        <a:pt x="17252" y="4607"/>
                        <a:pt x="17252" y="4607"/>
                      </a:cubicBezTo>
                      <a:cubicBezTo>
                        <a:pt x="17472" y="5349"/>
                        <a:pt x="16835" y="4812"/>
                        <a:pt x="16550" y="4709"/>
                      </a:cubicBezTo>
                      <a:cubicBezTo>
                        <a:pt x="16660" y="4914"/>
                        <a:pt x="16791" y="5119"/>
                        <a:pt x="16901" y="5323"/>
                      </a:cubicBezTo>
                      <a:cubicBezTo>
                        <a:pt x="17011" y="5528"/>
                        <a:pt x="17428" y="5733"/>
                        <a:pt x="17428" y="5733"/>
                      </a:cubicBezTo>
                      <a:cubicBezTo>
                        <a:pt x="17669" y="6142"/>
                        <a:pt x="17472" y="6219"/>
                        <a:pt x="17603" y="6654"/>
                      </a:cubicBezTo>
                      <a:cubicBezTo>
                        <a:pt x="17450" y="7166"/>
                        <a:pt x="17230" y="7652"/>
                        <a:pt x="17077" y="8190"/>
                      </a:cubicBezTo>
                      <a:cubicBezTo>
                        <a:pt x="17011" y="8394"/>
                        <a:pt x="16901" y="8804"/>
                        <a:pt x="16901" y="8804"/>
                      </a:cubicBezTo>
                      <a:cubicBezTo>
                        <a:pt x="17055" y="9316"/>
                        <a:pt x="17757" y="10032"/>
                        <a:pt x="18043" y="10544"/>
                      </a:cubicBezTo>
                      <a:cubicBezTo>
                        <a:pt x="18152" y="10749"/>
                        <a:pt x="18284" y="10954"/>
                        <a:pt x="18394" y="11158"/>
                      </a:cubicBezTo>
                      <a:cubicBezTo>
                        <a:pt x="18460" y="11261"/>
                        <a:pt x="18569" y="11466"/>
                        <a:pt x="18569" y="11466"/>
                      </a:cubicBezTo>
                      <a:cubicBezTo>
                        <a:pt x="18547" y="11645"/>
                        <a:pt x="18591" y="11875"/>
                        <a:pt x="18482" y="11977"/>
                      </a:cubicBezTo>
                      <a:cubicBezTo>
                        <a:pt x="18350" y="12105"/>
                        <a:pt x="18064" y="11491"/>
                        <a:pt x="18043" y="11466"/>
                      </a:cubicBezTo>
                      <a:cubicBezTo>
                        <a:pt x="17625" y="10979"/>
                        <a:pt x="17143" y="10723"/>
                        <a:pt x="16813" y="10135"/>
                      </a:cubicBezTo>
                      <a:cubicBezTo>
                        <a:pt x="16703" y="9649"/>
                        <a:pt x="16638" y="9444"/>
                        <a:pt x="16199" y="9623"/>
                      </a:cubicBezTo>
                      <a:cubicBezTo>
                        <a:pt x="15562" y="9367"/>
                        <a:pt x="15847" y="9367"/>
                        <a:pt x="15321" y="9521"/>
                      </a:cubicBezTo>
                      <a:cubicBezTo>
                        <a:pt x="14925" y="10237"/>
                        <a:pt x="15167" y="10058"/>
                        <a:pt x="14706" y="10237"/>
                      </a:cubicBezTo>
                      <a:cubicBezTo>
                        <a:pt x="14179" y="9828"/>
                        <a:pt x="14091" y="9930"/>
                        <a:pt x="13389" y="10032"/>
                      </a:cubicBezTo>
                      <a:cubicBezTo>
                        <a:pt x="13147" y="10467"/>
                        <a:pt x="13016" y="10851"/>
                        <a:pt x="12774" y="11261"/>
                      </a:cubicBezTo>
                      <a:cubicBezTo>
                        <a:pt x="12994" y="12003"/>
                        <a:pt x="12840" y="11696"/>
                        <a:pt x="13125" y="12182"/>
                      </a:cubicBezTo>
                      <a:cubicBezTo>
                        <a:pt x="12840" y="13206"/>
                        <a:pt x="13477" y="13974"/>
                        <a:pt x="13916" y="14741"/>
                      </a:cubicBezTo>
                      <a:cubicBezTo>
                        <a:pt x="14113" y="15074"/>
                        <a:pt x="14113" y="15330"/>
                        <a:pt x="14443" y="15458"/>
                      </a:cubicBezTo>
                      <a:cubicBezTo>
                        <a:pt x="14750" y="15995"/>
                        <a:pt x="14991" y="15893"/>
                        <a:pt x="15408" y="15560"/>
                      </a:cubicBezTo>
                      <a:cubicBezTo>
                        <a:pt x="15825" y="15714"/>
                        <a:pt x="15825" y="15458"/>
                        <a:pt x="15935" y="15049"/>
                      </a:cubicBezTo>
                      <a:cubicBezTo>
                        <a:pt x="15957" y="14716"/>
                        <a:pt x="15869" y="14332"/>
                        <a:pt x="16023" y="14025"/>
                      </a:cubicBezTo>
                      <a:cubicBezTo>
                        <a:pt x="16111" y="13846"/>
                        <a:pt x="16550" y="13820"/>
                        <a:pt x="16550" y="13820"/>
                      </a:cubicBezTo>
                      <a:cubicBezTo>
                        <a:pt x="17011" y="13948"/>
                        <a:pt x="17077" y="14076"/>
                        <a:pt x="16813" y="14537"/>
                      </a:cubicBezTo>
                      <a:cubicBezTo>
                        <a:pt x="16923" y="15049"/>
                        <a:pt x="17164" y="15432"/>
                        <a:pt x="16725" y="15765"/>
                      </a:cubicBezTo>
                      <a:cubicBezTo>
                        <a:pt x="16703" y="15867"/>
                        <a:pt x="16594" y="15970"/>
                        <a:pt x="16638" y="16072"/>
                      </a:cubicBezTo>
                      <a:cubicBezTo>
                        <a:pt x="16682" y="16175"/>
                        <a:pt x="16835" y="16175"/>
                        <a:pt x="16901" y="16277"/>
                      </a:cubicBezTo>
                      <a:cubicBezTo>
                        <a:pt x="17121" y="16610"/>
                        <a:pt x="17077" y="16840"/>
                        <a:pt x="17428" y="17096"/>
                      </a:cubicBezTo>
                      <a:cubicBezTo>
                        <a:pt x="17603" y="17019"/>
                        <a:pt x="17779" y="16968"/>
                        <a:pt x="17955" y="16891"/>
                      </a:cubicBezTo>
                      <a:cubicBezTo>
                        <a:pt x="18043" y="16866"/>
                        <a:pt x="18218" y="16789"/>
                        <a:pt x="18218" y="16789"/>
                      </a:cubicBezTo>
                      <a:cubicBezTo>
                        <a:pt x="18635" y="16942"/>
                        <a:pt x="18789" y="17352"/>
                        <a:pt x="18921" y="17813"/>
                      </a:cubicBezTo>
                      <a:cubicBezTo>
                        <a:pt x="18679" y="18657"/>
                        <a:pt x="19294" y="20269"/>
                        <a:pt x="20062" y="20576"/>
                      </a:cubicBezTo>
                      <a:cubicBezTo>
                        <a:pt x="20413" y="20449"/>
                        <a:pt x="20479" y="20218"/>
                        <a:pt x="20852" y="20372"/>
                      </a:cubicBezTo>
                      <a:cubicBezTo>
                        <a:pt x="21423" y="21370"/>
                        <a:pt x="20194" y="20013"/>
                        <a:pt x="20501" y="21088"/>
                      </a:cubicBezTo>
                      <a:cubicBezTo>
                        <a:pt x="20369" y="21549"/>
                        <a:pt x="20238" y="21549"/>
                        <a:pt x="19886" y="21293"/>
                      </a:cubicBezTo>
                      <a:cubicBezTo>
                        <a:pt x="19645" y="20858"/>
                        <a:pt x="19360" y="20960"/>
                        <a:pt x="19008" y="20679"/>
                      </a:cubicBezTo>
                      <a:cubicBezTo>
                        <a:pt x="18503" y="19809"/>
                        <a:pt x="19184" y="20832"/>
                        <a:pt x="18569" y="20269"/>
                      </a:cubicBezTo>
                      <a:cubicBezTo>
                        <a:pt x="18328" y="20039"/>
                        <a:pt x="18262" y="19604"/>
                        <a:pt x="18043" y="19348"/>
                      </a:cubicBezTo>
                      <a:cubicBezTo>
                        <a:pt x="17911" y="18862"/>
                        <a:pt x="17757" y="18478"/>
                        <a:pt x="17340" y="18324"/>
                      </a:cubicBezTo>
                      <a:cubicBezTo>
                        <a:pt x="17186" y="17761"/>
                        <a:pt x="17384" y="18171"/>
                        <a:pt x="16901" y="18120"/>
                      </a:cubicBezTo>
                      <a:cubicBezTo>
                        <a:pt x="16660" y="18094"/>
                        <a:pt x="16199" y="17915"/>
                        <a:pt x="16199" y="17915"/>
                      </a:cubicBezTo>
                      <a:cubicBezTo>
                        <a:pt x="15825" y="17633"/>
                        <a:pt x="15628" y="17198"/>
                        <a:pt x="15233" y="16891"/>
                      </a:cubicBezTo>
                      <a:cubicBezTo>
                        <a:pt x="15057" y="16968"/>
                        <a:pt x="14903" y="17173"/>
                        <a:pt x="14706" y="17198"/>
                      </a:cubicBezTo>
                      <a:cubicBezTo>
                        <a:pt x="14245" y="17275"/>
                        <a:pt x="13652" y="16763"/>
                        <a:pt x="13301" y="16482"/>
                      </a:cubicBezTo>
                      <a:cubicBezTo>
                        <a:pt x="12994" y="16251"/>
                        <a:pt x="12555" y="16303"/>
                        <a:pt x="12247" y="16072"/>
                      </a:cubicBezTo>
                      <a:cubicBezTo>
                        <a:pt x="11808" y="15740"/>
                        <a:pt x="11347" y="15484"/>
                        <a:pt x="10930" y="15151"/>
                      </a:cubicBezTo>
                      <a:cubicBezTo>
                        <a:pt x="11084" y="14588"/>
                        <a:pt x="10996" y="14050"/>
                        <a:pt x="10579" y="13718"/>
                      </a:cubicBezTo>
                      <a:cubicBezTo>
                        <a:pt x="10469" y="13308"/>
                        <a:pt x="10272" y="13129"/>
                        <a:pt x="9964" y="12899"/>
                      </a:cubicBezTo>
                      <a:cubicBezTo>
                        <a:pt x="9503" y="12080"/>
                        <a:pt x="10118" y="13078"/>
                        <a:pt x="9525" y="12387"/>
                      </a:cubicBezTo>
                      <a:cubicBezTo>
                        <a:pt x="9394" y="12233"/>
                        <a:pt x="9394" y="11926"/>
                        <a:pt x="9262" y="11773"/>
                      </a:cubicBezTo>
                      <a:cubicBezTo>
                        <a:pt x="9196" y="11696"/>
                        <a:pt x="9086" y="11696"/>
                        <a:pt x="8999" y="11670"/>
                      </a:cubicBezTo>
                      <a:cubicBezTo>
                        <a:pt x="8757" y="11389"/>
                        <a:pt x="8208" y="10954"/>
                        <a:pt x="8208" y="10954"/>
                      </a:cubicBezTo>
                      <a:cubicBezTo>
                        <a:pt x="7967" y="10519"/>
                        <a:pt x="7682" y="10160"/>
                        <a:pt x="7418" y="9725"/>
                      </a:cubicBezTo>
                      <a:cubicBezTo>
                        <a:pt x="7374" y="9623"/>
                        <a:pt x="7396" y="9495"/>
                        <a:pt x="7330" y="9418"/>
                      </a:cubicBezTo>
                      <a:cubicBezTo>
                        <a:pt x="7264" y="9341"/>
                        <a:pt x="7155" y="9341"/>
                        <a:pt x="7067" y="9316"/>
                      </a:cubicBezTo>
                      <a:cubicBezTo>
                        <a:pt x="6891" y="9930"/>
                        <a:pt x="7330" y="10135"/>
                        <a:pt x="7594" y="10544"/>
                      </a:cubicBezTo>
                      <a:cubicBezTo>
                        <a:pt x="7901" y="11005"/>
                        <a:pt x="7989" y="11363"/>
                        <a:pt x="8384" y="11670"/>
                      </a:cubicBezTo>
                      <a:cubicBezTo>
                        <a:pt x="8801" y="12413"/>
                        <a:pt x="8582" y="12105"/>
                        <a:pt x="8999" y="12592"/>
                      </a:cubicBezTo>
                      <a:cubicBezTo>
                        <a:pt x="9108" y="13001"/>
                        <a:pt x="9218" y="13180"/>
                        <a:pt x="9525" y="13411"/>
                      </a:cubicBezTo>
                      <a:cubicBezTo>
                        <a:pt x="9701" y="14025"/>
                        <a:pt x="9306" y="13590"/>
                        <a:pt x="9086" y="13411"/>
                      </a:cubicBezTo>
                      <a:cubicBezTo>
                        <a:pt x="8582" y="12540"/>
                        <a:pt x="9262" y="13564"/>
                        <a:pt x="8647" y="13001"/>
                      </a:cubicBezTo>
                      <a:cubicBezTo>
                        <a:pt x="8560" y="12924"/>
                        <a:pt x="8538" y="12771"/>
                        <a:pt x="8472" y="12694"/>
                      </a:cubicBezTo>
                      <a:cubicBezTo>
                        <a:pt x="8406" y="12617"/>
                        <a:pt x="8296" y="12566"/>
                        <a:pt x="8208" y="12489"/>
                      </a:cubicBezTo>
                      <a:cubicBezTo>
                        <a:pt x="8099" y="12080"/>
                        <a:pt x="7945" y="12003"/>
                        <a:pt x="7594" y="11875"/>
                      </a:cubicBezTo>
                      <a:cubicBezTo>
                        <a:pt x="7374" y="11517"/>
                        <a:pt x="7286" y="11389"/>
                        <a:pt x="7418" y="10954"/>
                      </a:cubicBezTo>
                      <a:cubicBezTo>
                        <a:pt x="7243" y="10647"/>
                        <a:pt x="6716" y="10237"/>
                        <a:pt x="6716" y="10237"/>
                      </a:cubicBezTo>
                      <a:cubicBezTo>
                        <a:pt x="6540" y="9930"/>
                        <a:pt x="6364" y="9623"/>
                        <a:pt x="6189" y="9316"/>
                      </a:cubicBezTo>
                      <a:cubicBezTo>
                        <a:pt x="6057" y="9085"/>
                        <a:pt x="5816" y="9009"/>
                        <a:pt x="5662" y="8804"/>
                      </a:cubicBezTo>
                      <a:cubicBezTo>
                        <a:pt x="5596" y="8702"/>
                        <a:pt x="5574" y="8574"/>
                        <a:pt x="5486" y="8497"/>
                      </a:cubicBezTo>
                      <a:cubicBezTo>
                        <a:pt x="5157" y="8241"/>
                        <a:pt x="4762" y="8241"/>
                        <a:pt x="4433" y="7985"/>
                      </a:cubicBezTo>
                      <a:cubicBezTo>
                        <a:pt x="4235" y="7627"/>
                        <a:pt x="4082" y="7396"/>
                        <a:pt x="3730" y="7268"/>
                      </a:cubicBezTo>
                      <a:cubicBezTo>
                        <a:pt x="3335" y="6603"/>
                        <a:pt x="4038" y="6270"/>
                        <a:pt x="3203" y="6040"/>
                      </a:cubicBezTo>
                      <a:cubicBezTo>
                        <a:pt x="2260" y="5298"/>
                        <a:pt x="2150" y="3762"/>
                        <a:pt x="1799" y="2559"/>
                      </a:cubicBezTo>
                      <a:cubicBezTo>
                        <a:pt x="1711" y="2252"/>
                        <a:pt x="1491" y="1817"/>
                        <a:pt x="1272" y="1638"/>
                      </a:cubicBezTo>
                      <a:cubicBezTo>
                        <a:pt x="1096" y="1485"/>
                        <a:pt x="745" y="1229"/>
                        <a:pt x="745" y="1229"/>
                      </a:cubicBezTo>
                      <a:cubicBezTo>
                        <a:pt x="679" y="1126"/>
                        <a:pt x="657" y="998"/>
                        <a:pt x="569" y="922"/>
                      </a:cubicBezTo>
                      <a:cubicBezTo>
                        <a:pt x="416" y="819"/>
                        <a:pt x="43" y="717"/>
                        <a:pt x="43" y="717"/>
                      </a:cubicBezTo>
                      <a:cubicBezTo>
                        <a:pt x="-177" y="-25"/>
                        <a:pt x="503" y="384"/>
                        <a:pt x="833" y="512"/>
                      </a:cubicBezTo>
                      <a:cubicBezTo>
                        <a:pt x="1250" y="1254"/>
                        <a:pt x="1162" y="998"/>
                        <a:pt x="1711" y="1433"/>
                      </a:cubicBezTo>
                      <a:cubicBezTo>
                        <a:pt x="1886" y="1740"/>
                        <a:pt x="1886" y="2329"/>
                        <a:pt x="2062" y="1740"/>
                      </a:cubicBezTo>
                      <a:cubicBezTo>
                        <a:pt x="1908" y="1203"/>
                        <a:pt x="1623" y="1536"/>
                        <a:pt x="1623" y="922"/>
                      </a:cubicBezTo>
                      <a:close/>
                      <a:moveTo>
                        <a:pt x="1623" y="9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1" name="Freeform 22"/>
                <p:cNvSpPr/>
                <p:nvPr/>
              </p:nvSpPr>
              <p:spPr>
                <a:xfrm>
                  <a:off x="4094640" y="498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4054" h="14065">
                      <a:moveTo>
                        <a:pt x="2457" y="5065"/>
                      </a:moveTo>
                      <a:cubicBezTo>
                        <a:pt x="13857" y="-7535"/>
                        <a:pt x="20457" y="6415"/>
                        <a:pt x="4857" y="14065"/>
                      </a:cubicBezTo>
                      <a:cubicBezTo>
                        <a:pt x="-1143" y="7765"/>
                        <a:pt x="-1143" y="10465"/>
                        <a:pt x="2457" y="5065"/>
                      </a:cubicBezTo>
                      <a:close/>
                      <a:moveTo>
                        <a:pt x="2457" y="506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2" name="Freeform 23"/>
                <p:cNvSpPr/>
                <p:nvPr/>
              </p:nvSpPr>
              <p:spPr>
                <a:xfrm>
                  <a:off x="4075560" y="48096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21600" h="15996">
                      <a:moveTo>
                        <a:pt x="0" y="2428"/>
                      </a:moveTo>
                      <a:cubicBezTo>
                        <a:pt x="2400" y="1844"/>
                        <a:pt x="4800" y="-491"/>
                        <a:pt x="7200" y="93"/>
                      </a:cubicBezTo>
                      <a:cubicBezTo>
                        <a:pt x="12600" y="1844"/>
                        <a:pt x="21600" y="9433"/>
                        <a:pt x="21600" y="9433"/>
                      </a:cubicBezTo>
                      <a:cubicBezTo>
                        <a:pt x="17400" y="21109"/>
                        <a:pt x="13200" y="14687"/>
                        <a:pt x="4800" y="9433"/>
                      </a:cubicBezTo>
                      <a:cubicBezTo>
                        <a:pt x="3000" y="7098"/>
                        <a:pt x="0" y="2428"/>
                        <a:pt x="0" y="2428"/>
                      </a:cubicBezTo>
                      <a:close/>
                      <a:moveTo>
                        <a:pt x="0" y="24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3" name="Freeform 24"/>
                <p:cNvSpPr/>
                <p:nvPr/>
              </p:nvSpPr>
              <p:spPr>
                <a:xfrm>
                  <a:off x="4845600" y="431640"/>
                  <a:ext cx="109440" cy="42840"/>
                </a:xfrm>
                <a:custGeom>
                  <a:avLst/>
                  <a:gdLst/>
                  <a:ahLst/>
                  <a:rect l="l" t="t" r="r" b="b"/>
                  <a:pathLst>
                    <a:path w="20548" h="17162">
                      <a:moveTo>
                        <a:pt x="0" y="9089"/>
                      </a:moveTo>
                      <a:cubicBezTo>
                        <a:pt x="635" y="5489"/>
                        <a:pt x="1525" y="4814"/>
                        <a:pt x="3558" y="3689"/>
                      </a:cubicBezTo>
                      <a:cubicBezTo>
                        <a:pt x="2541" y="-1936"/>
                        <a:pt x="5336" y="1664"/>
                        <a:pt x="7115" y="2789"/>
                      </a:cubicBezTo>
                      <a:cubicBezTo>
                        <a:pt x="7115" y="2789"/>
                        <a:pt x="9784" y="-586"/>
                        <a:pt x="10165" y="89"/>
                      </a:cubicBezTo>
                      <a:cubicBezTo>
                        <a:pt x="10800" y="1214"/>
                        <a:pt x="9021" y="3239"/>
                        <a:pt x="8132" y="3689"/>
                      </a:cubicBezTo>
                      <a:cubicBezTo>
                        <a:pt x="10419" y="6389"/>
                        <a:pt x="13087" y="7514"/>
                        <a:pt x="15755" y="9089"/>
                      </a:cubicBezTo>
                      <a:cubicBezTo>
                        <a:pt x="17280" y="9989"/>
                        <a:pt x="20329" y="12689"/>
                        <a:pt x="20329" y="12689"/>
                      </a:cubicBezTo>
                      <a:cubicBezTo>
                        <a:pt x="21600" y="19664"/>
                        <a:pt x="17026" y="16739"/>
                        <a:pt x="14739" y="15389"/>
                      </a:cubicBezTo>
                      <a:cubicBezTo>
                        <a:pt x="13849" y="10889"/>
                        <a:pt x="14739" y="12914"/>
                        <a:pt x="11181" y="10889"/>
                      </a:cubicBezTo>
                      <a:cubicBezTo>
                        <a:pt x="10673" y="10664"/>
                        <a:pt x="9656" y="9989"/>
                        <a:pt x="9656" y="9989"/>
                      </a:cubicBezTo>
                      <a:cubicBezTo>
                        <a:pt x="7242" y="5714"/>
                        <a:pt x="6734" y="6389"/>
                        <a:pt x="3049" y="7289"/>
                      </a:cubicBezTo>
                      <a:cubicBezTo>
                        <a:pt x="1144" y="9539"/>
                        <a:pt x="2160" y="9089"/>
                        <a:pt x="0" y="9089"/>
                      </a:cubicBezTo>
                      <a:close/>
                      <a:moveTo>
                        <a:pt x="0" y="90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4" name="Freeform 25"/>
                <p:cNvSpPr/>
                <p:nvPr/>
              </p:nvSpPr>
              <p:spPr>
                <a:xfrm>
                  <a:off x="4967640" y="471600"/>
                  <a:ext cx="84240" cy="23760"/>
                </a:xfrm>
                <a:custGeom>
                  <a:avLst/>
                  <a:gdLst/>
                  <a:ahLst/>
                  <a:rect l="l" t="t" r="r" b="b"/>
                  <a:pathLst>
                    <a:path w="19535" h="21600">
                      <a:moveTo>
                        <a:pt x="0" y="0"/>
                      </a:moveTo>
                      <a:cubicBezTo>
                        <a:pt x="2974" y="1473"/>
                        <a:pt x="5478" y="4909"/>
                        <a:pt x="8139" y="1964"/>
                      </a:cubicBezTo>
                      <a:cubicBezTo>
                        <a:pt x="13617" y="5400"/>
                        <a:pt x="9548" y="7364"/>
                        <a:pt x="13774" y="11782"/>
                      </a:cubicBezTo>
                      <a:cubicBezTo>
                        <a:pt x="15026" y="11291"/>
                        <a:pt x="16278" y="9327"/>
                        <a:pt x="17530" y="9818"/>
                      </a:cubicBezTo>
                      <a:cubicBezTo>
                        <a:pt x="21600" y="11291"/>
                        <a:pt x="18470" y="20127"/>
                        <a:pt x="16904" y="21600"/>
                      </a:cubicBezTo>
                      <a:cubicBezTo>
                        <a:pt x="12209" y="16691"/>
                        <a:pt x="14400" y="16691"/>
                        <a:pt x="10017" y="19636"/>
                      </a:cubicBezTo>
                      <a:cubicBezTo>
                        <a:pt x="6417" y="18164"/>
                        <a:pt x="3443" y="20127"/>
                        <a:pt x="0" y="17673"/>
                      </a:cubicBezTo>
                      <a:cubicBezTo>
                        <a:pt x="939" y="5400"/>
                        <a:pt x="1096" y="13255"/>
                        <a:pt x="4383" y="9818"/>
                      </a:cubicBezTo>
                      <a:cubicBezTo>
                        <a:pt x="2661" y="6382"/>
                        <a:pt x="0" y="6382"/>
                        <a:pt x="0" y="0"/>
                      </a:cubicBez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>
                  <a:off x="4924800" y="487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2677" h="11240">
                      <a:moveTo>
                        <a:pt x="2391" y="8694"/>
                      </a:moveTo>
                      <a:cubicBezTo>
                        <a:pt x="-4051" y="-4163"/>
                        <a:pt x="3907" y="466"/>
                        <a:pt x="9970" y="2523"/>
                      </a:cubicBezTo>
                      <a:cubicBezTo>
                        <a:pt x="17549" y="17437"/>
                        <a:pt x="7317" y="8694"/>
                        <a:pt x="2391" y="8694"/>
                      </a:cubicBezTo>
                      <a:close/>
                      <a:moveTo>
                        <a:pt x="2391" y="869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6" name="Freeform 27"/>
                <p:cNvSpPr/>
                <p:nvPr/>
              </p:nvSpPr>
              <p:spPr>
                <a:xfrm>
                  <a:off x="4897800" y="4158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10960" h="15340">
                      <a:moveTo>
                        <a:pt x="5506" y="13292"/>
                      </a:moveTo>
                      <a:cubicBezTo>
                        <a:pt x="2183" y="5815"/>
                        <a:pt x="-5017" y="5400"/>
                        <a:pt x="5506" y="0"/>
                      </a:cubicBezTo>
                      <a:cubicBezTo>
                        <a:pt x="7721" y="2077"/>
                        <a:pt x="16583" y="21600"/>
                        <a:pt x="5506" y="13292"/>
                      </a:cubicBezTo>
                      <a:close/>
                      <a:moveTo>
                        <a:pt x="5506" y="1329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7" name="Freeform 28"/>
                <p:cNvSpPr/>
                <p:nvPr/>
              </p:nvSpPr>
              <p:spPr>
                <a:xfrm>
                  <a:off x="5094720" y="5032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9487" h="19095">
                      <a:moveTo>
                        <a:pt x="1964" y="1262"/>
                      </a:moveTo>
                      <a:cubicBezTo>
                        <a:pt x="4418" y="3422"/>
                        <a:pt x="8836" y="5312"/>
                        <a:pt x="9818" y="7742"/>
                      </a:cubicBezTo>
                      <a:cubicBezTo>
                        <a:pt x="10309" y="9092"/>
                        <a:pt x="10309" y="10982"/>
                        <a:pt x="11782" y="12062"/>
                      </a:cubicBezTo>
                      <a:cubicBezTo>
                        <a:pt x="13255" y="12872"/>
                        <a:pt x="15709" y="12872"/>
                        <a:pt x="17673" y="13142"/>
                      </a:cubicBezTo>
                      <a:cubicBezTo>
                        <a:pt x="20127" y="17192"/>
                        <a:pt x="21600" y="20432"/>
                        <a:pt x="11782" y="18542"/>
                      </a:cubicBezTo>
                      <a:cubicBezTo>
                        <a:pt x="9327" y="13682"/>
                        <a:pt x="5400" y="8822"/>
                        <a:pt x="0" y="4502"/>
                      </a:cubicBezTo>
                      <a:cubicBezTo>
                        <a:pt x="1964" y="-88"/>
                        <a:pt x="1964" y="-1168"/>
                        <a:pt x="1964" y="1262"/>
                      </a:cubicBezTo>
                      <a:close/>
                      <a:moveTo>
                        <a:pt x="1964" y="126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>
                  <a:off x="4556520" y="176040"/>
                  <a:ext cx="322200" cy="63720"/>
                </a:xfrm>
                <a:custGeom>
                  <a:avLst/>
                  <a:gdLst/>
                  <a:ahLst/>
                  <a:rect l="l" t="t" r="r" b="b"/>
                  <a:pathLst>
                    <a:path w="21403" h="21263">
                      <a:moveTo>
                        <a:pt x="14646" y="338"/>
                      </a:moveTo>
                      <a:cubicBezTo>
                        <a:pt x="14312" y="4050"/>
                        <a:pt x="14980" y="5738"/>
                        <a:pt x="15382" y="2700"/>
                      </a:cubicBezTo>
                      <a:cubicBezTo>
                        <a:pt x="15649" y="0"/>
                        <a:pt x="15248" y="2363"/>
                        <a:pt x="15649" y="0"/>
                      </a:cubicBezTo>
                      <a:lnTo>
                        <a:pt x="17655" y="0"/>
                      </a:lnTo>
                      <a:cubicBezTo>
                        <a:pt x="18458" y="2025"/>
                        <a:pt x="18391" y="3713"/>
                        <a:pt x="19127" y="5738"/>
                      </a:cubicBezTo>
                      <a:cubicBezTo>
                        <a:pt x="20531" y="3713"/>
                        <a:pt x="19528" y="2363"/>
                        <a:pt x="21267" y="3375"/>
                      </a:cubicBezTo>
                      <a:cubicBezTo>
                        <a:pt x="21534" y="6413"/>
                        <a:pt x="21400" y="7425"/>
                        <a:pt x="20932" y="9788"/>
                      </a:cubicBezTo>
                      <a:cubicBezTo>
                        <a:pt x="20798" y="13163"/>
                        <a:pt x="20865" y="16875"/>
                        <a:pt x="19862" y="15525"/>
                      </a:cubicBezTo>
                      <a:cubicBezTo>
                        <a:pt x="19795" y="13500"/>
                        <a:pt x="19862" y="11475"/>
                        <a:pt x="19662" y="9788"/>
                      </a:cubicBezTo>
                      <a:cubicBezTo>
                        <a:pt x="19595" y="9113"/>
                        <a:pt x="19327" y="10463"/>
                        <a:pt x="19127" y="10463"/>
                      </a:cubicBezTo>
                      <a:cubicBezTo>
                        <a:pt x="18926" y="10463"/>
                        <a:pt x="18792" y="10125"/>
                        <a:pt x="18592" y="9788"/>
                      </a:cubicBezTo>
                      <a:cubicBezTo>
                        <a:pt x="18257" y="9113"/>
                        <a:pt x="17522" y="7088"/>
                        <a:pt x="17522" y="7088"/>
                      </a:cubicBezTo>
                      <a:cubicBezTo>
                        <a:pt x="16585" y="7763"/>
                        <a:pt x="16050" y="10463"/>
                        <a:pt x="15181" y="12825"/>
                      </a:cubicBezTo>
                      <a:cubicBezTo>
                        <a:pt x="14646" y="13838"/>
                        <a:pt x="13910" y="14175"/>
                        <a:pt x="13375" y="14850"/>
                      </a:cubicBezTo>
                      <a:cubicBezTo>
                        <a:pt x="12841" y="18225"/>
                        <a:pt x="13309" y="17888"/>
                        <a:pt x="14111" y="19238"/>
                      </a:cubicBezTo>
                      <a:cubicBezTo>
                        <a:pt x="13309" y="20925"/>
                        <a:pt x="13242" y="19238"/>
                        <a:pt x="12506" y="21263"/>
                      </a:cubicBezTo>
                      <a:cubicBezTo>
                        <a:pt x="12038" y="20925"/>
                        <a:pt x="11570" y="21600"/>
                        <a:pt x="11236" y="20588"/>
                      </a:cubicBezTo>
                      <a:cubicBezTo>
                        <a:pt x="11035" y="19913"/>
                        <a:pt x="11637" y="19913"/>
                        <a:pt x="11771" y="19238"/>
                      </a:cubicBezTo>
                      <a:cubicBezTo>
                        <a:pt x="12038" y="16200"/>
                        <a:pt x="9898" y="9450"/>
                        <a:pt x="11369" y="13500"/>
                      </a:cubicBezTo>
                      <a:cubicBezTo>
                        <a:pt x="12239" y="18563"/>
                        <a:pt x="12239" y="12150"/>
                        <a:pt x="11236" y="10463"/>
                      </a:cubicBezTo>
                      <a:cubicBezTo>
                        <a:pt x="11102" y="9113"/>
                        <a:pt x="11102" y="7425"/>
                        <a:pt x="10500" y="7763"/>
                      </a:cubicBezTo>
                      <a:cubicBezTo>
                        <a:pt x="10166" y="7763"/>
                        <a:pt x="9430" y="9113"/>
                        <a:pt x="9430" y="9113"/>
                      </a:cubicBezTo>
                      <a:cubicBezTo>
                        <a:pt x="9029" y="13163"/>
                        <a:pt x="9497" y="10463"/>
                        <a:pt x="8895" y="9113"/>
                      </a:cubicBezTo>
                      <a:cubicBezTo>
                        <a:pt x="8627" y="8438"/>
                        <a:pt x="8360" y="8438"/>
                        <a:pt x="8159" y="8438"/>
                      </a:cubicBezTo>
                      <a:cubicBezTo>
                        <a:pt x="7758" y="3713"/>
                        <a:pt x="6621" y="2025"/>
                        <a:pt x="5484" y="675"/>
                      </a:cubicBezTo>
                      <a:cubicBezTo>
                        <a:pt x="4615" y="1350"/>
                        <a:pt x="4548" y="3038"/>
                        <a:pt x="3880" y="4725"/>
                      </a:cubicBezTo>
                      <a:cubicBezTo>
                        <a:pt x="2943" y="4725"/>
                        <a:pt x="-66" y="4050"/>
                        <a:pt x="1" y="0"/>
                      </a:cubicBezTo>
                      <a:lnTo>
                        <a:pt x="14646" y="338"/>
                      </a:lnTo>
                      <a:close/>
                      <a:moveTo>
                        <a:pt x="14646" y="3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9" name="Freeform 30"/>
                <p:cNvSpPr/>
                <p:nvPr/>
              </p:nvSpPr>
              <p:spPr>
                <a:xfrm>
                  <a:off x="4291560" y="174600"/>
                  <a:ext cx="276120" cy="31680"/>
                </a:xfrm>
                <a:custGeom>
                  <a:avLst/>
                  <a:gdLst/>
                  <a:ahLst/>
                  <a:rect l="l" t="t" r="r" b="b"/>
                  <a:pathLst>
                    <a:path w="19726" h="21600">
                      <a:moveTo>
                        <a:pt x="5865" y="21600"/>
                      </a:moveTo>
                      <a:cubicBezTo>
                        <a:pt x="4281" y="13239"/>
                        <a:pt x="-1695" y="4181"/>
                        <a:pt x="465" y="697"/>
                      </a:cubicBezTo>
                      <a:lnTo>
                        <a:pt x="18825" y="0"/>
                      </a:lnTo>
                      <a:cubicBezTo>
                        <a:pt x="19617" y="2787"/>
                        <a:pt x="19905" y="3484"/>
                        <a:pt x="19617" y="9755"/>
                      </a:cubicBezTo>
                      <a:cubicBezTo>
                        <a:pt x="18825" y="7665"/>
                        <a:pt x="18177" y="11148"/>
                        <a:pt x="17313" y="11148"/>
                      </a:cubicBezTo>
                      <a:lnTo>
                        <a:pt x="5865" y="21600"/>
                      </a:lnTo>
                      <a:close/>
                      <a:moveTo>
                        <a:pt x="5865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0" name="Freeform 31"/>
                <p:cNvSpPr/>
                <p:nvPr/>
              </p:nvSpPr>
              <p:spPr>
                <a:xfrm>
                  <a:off x="3603600" y="22536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1" name="Freeform 32"/>
                <p:cNvSpPr/>
                <p:nvPr/>
              </p:nvSpPr>
              <p:spPr>
                <a:xfrm>
                  <a:off x="2826000" y="174600"/>
                  <a:ext cx="691920" cy="24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17" y="142"/>
                      </a:moveTo>
                      <a:lnTo>
                        <a:pt x="21600" y="0"/>
                      </a:lnTo>
                      <a:cubicBezTo>
                        <a:pt x="21303" y="2132"/>
                        <a:pt x="21253" y="5968"/>
                        <a:pt x="20609" y="7674"/>
                      </a:cubicBezTo>
                      <a:cubicBezTo>
                        <a:pt x="20312" y="8526"/>
                        <a:pt x="20064" y="8953"/>
                        <a:pt x="19668" y="9663"/>
                      </a:cubicBezTo>
                      <a:cubicBezTo>
                        <a:pt x="19618" y="9805"/>
                        <a:pt x="19420" y="9947"/>
                        <a:pt x="19420" y="9947"/>
                      </a:cubicBezTo>
                      <a:cubicBezTo>
                        <a:pt x="18677" y="8953"/>
                        <a:pt x="19073" y="9663"/>
                        <a:pt x="18578" y="10374"/>
                      </a:cubicBezTo>
                      <a:cubicBezTo>
                        <a:pt x="18380" y="11653"/>
                        <a:pt x="18380" y="11795"/>
                        <a:pt x="17884" y="12505"/>
                      </a:cubicBezTo>
                      <a:cubicBezTo>
                        <a:pt x="17785" y="13074"/>
                        <a:pt x="18033" y="13216"/>
                        <a:pt x="17934" y="14068"/>
                      </a:cubicBezTo>
                      <a:cubicBezTo>
                        <a:pt x="17983" y="14495"/>
                        <a:pt x="18033" y="14921"/>
                        <a:pt x="18033" y="15205"/>
                      </a:cubicBezTo>
                      <a:cubicBezTo>
                        <a:pt x="18083" y="15489"/>
                        <a:pt x="18132" y="15774"/>
                        <a:pt x="18132" y="16058"/>
                      </a:cubicBezTo>
                      <a:cubicBezTo>
                        <a:pt x="18083" y="16342"/>
                        <a:pt x="18033" y="17053"/>
                        <a:pt x="17934" y="17337"/>
                      </a:cubicBezTo>
                      <a:cubicBezTo>
                        <a:pt x="17785" y="17479"/>
                        <a:pt x="17538" y="16911"/>
                        <a:pt x="17389" y="17053"/>
                      </a:cubicBezTo>
                      <a:cubicBezTo>
                        <a:pt x="17191" y="18332"/>
                        <a:pt x="17439" y="18047"/>
                        <a:pt x="16943" y="18332"/>
                      </a:cubicBezTo>
                      <a:cubicBezTo>
                        <a:pt x="16844" y="17479"/>
                        <a:pt x="17092" y="15774"/>
                        <a:pt x="17191" y="14921"/>
                      </a:cubicBezTo>
                      <a:cubicBezTo>
                        <a:pt x="17191" y="14211"/>
                        <a:pt x="16745" y="14495"/>
                        <a:pt x="16745" y="14211"/>
                      </a:cubicBezTo>
                      <a:cubicBezTo>
                        <a:pt x="16745" y="13926"/>
                        <a:pt x="17042" y="13500"/>
                        <a:pt x="17042" y="13216"/>
                      </a:cubicBezTo>
                      <a:cubicBezTo>
                        <a:pt x="17042" y="13074"/>
                        <a:pt x="17042" y="12647"/>
                        <a:pt x="16943" y="12647"/>
                      </a:cubicBezTo>
                      <a:cubicBezTo>
                        <a:pt x="16794" y="12647"/>
                        <a:pt x="16051" y="13358"/>
                        <a:pt x="15853" y="13358"/>
                      </a:cubicBezTo>
                      <a:cubicBezTo>
                        <a:pt x="15705" y="12221"/>
                        <a:pt x="16250" y="12505"/>
                        <a:pt x="15705" y="12079"/>
                      </a:cubicBezTo>
                      <a:cubicBezTo>
                        <a:pt x="15407" y="12932"/>
                        <a:pt x="15160" y="13216"/>
                        <a:pt x="14714" y="13358"/>
                      </a:cubicBezTo>
                      <a:cubicBezTo>
                        <a:pt x="14862" y="14779"/>
                        <a:pt x="15209" y="14353"/>
                        <a:pt x="15853" y="14637"/>
                      </a:cubicBezTo>
                      <a:cubicBezTo>
                        <a:pt x="15754" y="15489"/>
                        <a:pt x="15407" y="15774"/>
                        <a:pt x="15110" y="16626"/>
                      </a:cubicBezTo>
                      <a:lnTo>
                        <a:pt x="15407" y="17905"/>
                      </a:lnTo>
                      <a:lnTo>
                        <a:pt x="15606" y="19611"/>
                      </a:lnTo>
                      <a:lnTo>
                        <a:pt x="15308" y="19753"/>
                      </a:lnTo>
                      <a:lnTo>
                        <a:pt x="15556" y="20463"/>
                      </a:lnTo>
                      <a:lnTo>
                        <a:pt x="15209" y="21600"/>
                      </a:lnTo>
                      <a:lnTo>
                        <a:pt x="0" y="21174"/>
                      </a:lnTo>
                      <a:lnTo>
                        <a:pt x="3617" y="142"/>
                      </a:lnTo>
                      <a:close/>
                      <a:moveTo>
                        <a:pt x="3617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>
                  <a:off x="3519720" y="16668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3" name="Freeform 34"/>
                <p:cNvSpPr/>
                <p:nvPr/>
              </p:nvSpPr>
              <p:spPr>
                <a:xfrm>
                  <a:off x="3500640" y="24300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4" name="Freeform 35"/>
                <p:cNvSpPr/>
                <p:nvPr/>
              </p:nvSpPr>
              <p:spPr>
                <a:xfrm>
                  <a:off x="3400560" y="2905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>
                  <a:off x="277344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6" name="Freeform 37"/>
                <p:cNvSpPr/>
                <p:nvPr/>
              </p:nvSpPr>
              <p:spPr>
                <a:xfrm>
                  <a:off x="287028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7" name="Freeform 38"/>
                <p:cNvSpPr/>
                <p:nvPr/>
              </p:nvSpPr>
              <p:spPr>
                <a:xfrm>
                  <a:off x="3292560" y="452520"/>
                  <a:ext cx="27000" cy="3636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8" name="Freeform 39"/>
                <p:cNvSpPr/>
                <p:nvPr/>
              </p:nvSpPr>
              <p:spPr>
                <a:xfrm>
                  <a:off x="1897200" y="282600"/>
                  <a:ext cx="684360" cy="56052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>
                  <a:off x="2163960" y="552600"/>
                  <a:ext cx="258840" cy="29196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0" name="Freeform 41"/>
                <p:cNvSpPr/>
                <p:nvPr/>
              </p:nvSpPr>
              <p:spPr>
                <a:xfrm>
                  <a:off x="2621160" y="7570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1" name="Freeform 42"/>
                <p:cNvSpPr/>
                <p:nvPr/>
              </p:nvSpPr>
              <p:spPr>
                <a:xfrm>
                  <a:off x="19846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>
                  <a:off x="2457720" y="204840"/>
                  <a:ext cx="4683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3" name="Freeform 44"/>
                <p:cNvSpPr/>
                <p:nvPr/>
              </p:nvSpPr>
              <p:spPr>
                <a:xfrm>
                  <a:off x="2138400" y="174600"/>
                  <a:ext cx="87480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4" name="Freeform 45"/>
                <p:cNvSpPr/>
                <p:nvPr/>
              </p:nvSpPr>
              <p:spPr>
                <a:xfrm>
                  <a:off x="2330640" y="23184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5" name="Freeform 46"/>
                <p:cNvSpPr/>
                <p:nvPr/>
              </p:nvSpPr>
              <p:spPr>
                <a:xfrm>
                  <a:off x="23068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6" name="Freeform 47"/>
                <p:cNvSpPr/>
                <p:nvPr/>
              </p:nvSpPr>
              <p:spPr>
                <a:xfrm>
                  <a:off x="2413080" y="318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7" name="Freeform 48"/>
                <p:cNvSpPr/>
                <p:nvPr/>
              </p:nvSpPr>
              <p:spPr>
                <a:xfrm>
                  <a:off x="2490840" y="3207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8" name="Freeform 49"/>
                <p:cNvSpPr/>
                <p:nvPr/>
              </p:nvSpPr>
              <p:spPr>
                <a:xfrm>
                  <a:off x="2260800" y="2556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359" name="Group 86"/>
              <p:cNvGrpSpPr/>
              <p:nvPr/>
            </p:nvGrpSpPr>
            <p:grpSpPr>
              <a:xfrm>
                <a:off x="6165000" y="165240"/>
                <a:ext cx="1764000" cy="681120"/>
                <a:chOff x="6165000" y="165240"/>
                <a:chExt cx="1764000" cy="681120"/>
              </a:xfrm>
            </p:grpSpPr>
            <p:sp>
              <p:nvSpPr>
                <p:cNvPr id="360" name="Freeform 51"/>
                <p:cNvSpPr/>
                <p:nvPr/>
              </p:nvSpPr>
              <p:spPr>
                <a:xfrm>
                  <a:off x="7908480" y="76212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1" name="Freeform 52"/>
                <p:cNvSpPr/>
                <p:nvPr/>
              </p:nvSpPr>
              <p:spPr>
                <a:xfrm>
                  <a:off x="7595640" y="79236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2" name="Freeform 53"/>
                <p:cNvSpPr/>
                <p:nvPr/>
              </p:nvSpPr>
              <p:spPr>
                <a:xfrm>
                  <a:off x="7546320" y="79056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3" name="Freeform 54"/>
                <p:cNvSpPr/>
                <p:nvPr/>
              </p:nvSpPr>
              <p:spPr>
                <a:xfrm>
                  <a:off x="7299000" y="652680"/>
                  <a:ext cx="237960" cy="14580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4" name="Freeform 55"/>
                <p:cNvSpPr/>
                <p:nvPr/>
              </p:nvSpPr>
              <p:spPr>
                <a:xfrm>
                  <a:off x="7443360" y="6429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5" name="Freeform 56"/>
                <p:cNvSpPr/>
                <p:nvPr/>
              </p:nvSpPr>
              <p:spPr>
                <a:xfrm>
                  <a:off x="754812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6" name="Freeform 57"/>
                <p:cNvSpPr/>
                <p:nvPr/>
              </p:nvSpPr>
              <p:spPr>
                <a:xfrm>
                  <a:off x="7543440" y="7178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7" name="Freeform 58"/>
                <p:cNvSpPr/>
                <p:nvPr/>
              </p:nvSpPr>
              <p:spPr>
                <a:xfrm>
                  <a:off x="7630560" y="6876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8" name="Freeform 59"/>
                <p:cNvSpPr/>
                <p:nvPr/>
              </p:nvSpPr>
              <p:spPr>
                <a:xfrm>
                  <a:off x="7637040" y="736920"/>
                  <a:ext cx="30240" cy="1080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9" name="Freeform 60"/>
                <p:cNvSpPr/>
                <p:nvPr/>
              </p:nvSpPr>
              <p:spPr>
                <a:xfrm>
                  <a:off x="7670160" y="7128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0" name="Freeform 61"/>
                <p:cNvSpPr/>
                <p:nvPr/>
              </p:nvSpPr>
              <p:spPr>
                <a:xfrm>
                  <a:off x="7679880" y="725760"/>
                  <a:ext cx="19368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1" name="Freeform 62"/>
                <p:cNvSpPr/>
                <p:nvPr/>
              </p:nvSpPr>
              <p:spPr>
                <a:xfrm>
                  <a:off x="7849800" y="73512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2" name="Freeform 63"/>
                <p:cNvSpPr/>
                <p:nvPr/>
              </p:nvSpPr>
              <p:spPr>
                <a:xfrm>
                  <a:off x="757512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3" name="Freeform 64"/>
                <p:cNvSpPr/>
                <p:nvPr/>
              </p:nvSpPr>
              <p:spPr>
                <a:xfrm>
                  <a:off x="7560720" y="52416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4" name="Freeform 65"/>
                <p:cNvSpPr/>
                <p:nvPr/>
              </p:nvSpPr>
              <p:spPr>
                <a:xfrm>
                  <a:off x="7576560" y="59076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5" name="Freeform 66"/>
                <p:cNvSpPr/>
                <p:nvPr/>
              </p:nvSpPr>
              <p:spPr>
                <a:xfrm>
                  <a:off x="7529040" y="5968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6" name="Freeform 67"/>
                <p:cNvSpPr/>
                <p:nvPr/>
              </p:nvSpPr>
              <p:spPr>
                <a:xfrm>
                  <a:off x="7870320" y="2257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7" name="Freeform 68"/>
                <p:cNvSpPr/>
                <p:nvPr/>
              </p:nvSpPr>
              <p:spPr>
                <a:xfrm>
                  <a:off x="7090920" y="174600"/>
                  <a:ext cx="695160" cy="24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00" y="142"/>
                      </a:moveTo>
                      <a:lnTo>
                        <a:pt x="21600" y="0"/>
                      </a:lnTo>
                      <a:cubicBezTo>
                        <a:pt x="21304" y="2132"/>
                        <a:pt x="21156" y="5968"/>
                        <a:pt x="20515" y="7674"/>
                      </a:cubicBezTo>
                      <a:cubicBezTo>
                        <a:pt x="20219" y="8526"/>
                        <a:pt x="19973" y="8953"/>
                        <a:pt x="19578" y="9663"/>
                      </a:cubicBezTo>
                      <a:cubicBezTo>
                        <a:pt x="19529" y="9805"/>
                        <a:pt x="19332" y="9947"/>
                        <a:pt x="19332" y="9947"/>
                      </a:cubicBezTo>
                      <a:cubicBezTo>
                        <a:pt x="18592" y="8953"/>
                        <a:pt x="18986" y="9663"/>
                        <a:pt x="18493" y="10374"/>
                      </a:cubicBezTo>
                      <a:cubicBezTo>
                        <a:pt x="18296" y="11653"/>
                        <a:pt x="18296" y="11795"/>
                        <a:pt x="17803" y="12505"/>
                      </a:cubicBezTo>
                      <a:cubicBezTo>
                        <a:pt x="17704" y="13074"/>
                        <a:pt x="17951" y="13216"/>
                        <a:pt x="17852" y="14068"/>
                      </a:cubicBezTo>
                      <a:cubicBezTo>
                        <a:pt x="17901" y="14495"/>
                        <a:pt x="17951" y="14921"/>
                        <a:pt x="17951" y="15205"/>
                      </a:cubicBezTo>
                      <a:cubicBezTo>
                        <a:pt x="18000" y="15489"/>
                        <a:pt x="18049" y="15774"/>
                        <a:pt x="18049" y="16058"/>
                      </a:cubicBezTo>
                      <a:cubicBezTo>
                        <a:pt x="18000" y="16342"/>
                        <a:pt x="17951" y="17053"/>
                        <a:pt x="17852" y="17337"/>
                      </a:cubicBezTo>
                      <a:cubicBezTo>
                        <a:pt x="17704" y="17479"/>
                        <a:pt x="17458" y="16911"/>
                        <a:pt x="17310" y="17053"/>
                      </a:cubicBezTo>
                      <a:cubicBezTo>
                        <a:pt x="17112" y="18332"/>
                        <a:pt x="17359" y="18047"/>
                        <a:pt x="16866" y="18332"/>
                      </a:cubicBezTo>
                      <a:cubicBezTo>
                        <a:pt x="16767" y="17479"/>
                        <a:pt x="17014" y="15774"/>
                        <a:pt x="17112" y="14921"/>
                      </a:cubicBezTo>
                      <a:cubicBezTo>
                        <a:pt x="17112" y="14211"/>
                        <a:pt x="16668" y="14495"/>
                        <a:pt x="16668" y="14211"/>
                      </a:cubicBezTo>
                      <a:cubicBezTo>
                        <a:pt x="16668" y="13926"/>
                        <a:pt x="16964" y="13500"/>
                        <a:pt x="16964" y="13216"/>
                      </a:cubicBezTo>
                      <a:cubicBezTo>
                        <a:pt x="16964" y="13074"/>
                        <a:pt x="16964" y="12647"/>
                        <a:pt x="16866" y="12647"/>
                      </a:cubicBezTo>
                      <a:cubicBezTo>
                        <a:pt x="16718" y="12647"/>
                        <a:pt x="15978" y="13358"/>
                        <a:pt x="15781" y="13358"/>
                      </a:cubicBezTo>
                      <a:cubicBezTo>
                        <a:pt x="15633" y="12221"/>
                        <a:pt x="16175" y="12505"/>
                        <a:pt x="15633" y="12079"/>
                      </a:cubicBezTo>
                      <a:cubicBezTo>
                        <a:pt x="15337" y="12932"/>
                        <a:pt x="15090" y="13216"/>
                        <a:pt x="14647" y="13358"/>
                      </a:cubicBezTo>
                      <a:cubicBezTo>
                        <a:pt x="14795" y="14779"/>
                        <a:pt x="15140" y="14353"/>
                        <a:pt x="15781" y="14637"/>
                      </a:cubicBezTo>
                      <a:cubicBezTo>
                        <a:pt x="15682" y="15489"/>
                        <a:pt x="15337" y="15774"/>
                        <a:pt x="15041" y="16626"/>
                      </a:cubicBezTo>
                      <a:lnTo>
                        <a:pt x="15337" y="17905"/>
                      </a:lnTo>
                      <a:lnTo>
                        <a:pt x="15534" y="19611"/>
                      </a:lnTo>
                      <a:lnTo>
                        <a:pt x="15238" y="19753"/>
                      </a:lnTo>
                      <a:lnTo>
                        <a:pt x="15485" y="20463"/>
                      </a:lnTo>
                      <a:lnTo>
                        <a:pt x="15140" y="21600"/>
                      </a:lnTo>
                      <a:lnTo>
                        <a:pt x="0" y="21174"/>
                      </a:lnTo>
                      <a:lnTo>
                        <a:pt x="3600" y="142"/>
                      </a:lnTo>
                      <a:close/>
                      <a:moveTo>
                        <a:pt x="3600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8" name="Freeform 69"/>
                <p:cNvSpPr/>
                <p:nvPr/>
              </p:nvSpPr>
              <p:spPr>
                <a:xfrm>
                  <a:off x="7787880" y="16524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9" name="Freeform 70"/>
                <p:cNvSpPr/>
                <p:nvPr/>
              </p:nvSpPr>
              <p:spPr>
                <a:xfrm>
                  <a:off x="7767000" y="243000"/>
                  <a:ext cx="9396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0" name="Freeform 71"/>
                <p:cNvSpPr/>
                <p:nvPr/>
              </p:nvSpPr>
              <p:spPr>
                <a:xfrm>
                  <a:off x="7667280" y="29052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1" name="Freeform 72"/>
                <p:cNvSpPr/>
                <p:nvPr/>
              </p:nvSpPr>
              <p:spPr>
                <a:xfrm>
                  <a:off x="703980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2" name="Freeform 73"/>
                <p:cNvSpPr/>
                <p:nvPr/>
              </p:nvSpPr>
              <p:spPr>
                <a:xfrm>
                  <a:off x="713844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3" name="Freeform 74"/>
                <p:cNvSpPr/>
                <p:nvPr/>
              </p:nvSpPr>
              <p:spPr>
                <a:xfrm>
                  <a:off x="7560720" y="4525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4" name="Freeform 75"/>
                <p:cNvSpPr/>
                <p:nvPr/>
              </p:nvSpPr>
              <p:spPr>
                <a:xfrm>
                  <a:off x="6165000" y="284400"/>
                  <a:ext cx="684360" cy="56016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5" name="Freeform 76"/>
                <p:cNvSpPr/>
                <p:nvPr/>
              </p:nvSpPr>
              <p:spPr>
                <a:xfrm>
                  <a:off x="6429960" y="554040"/>
                  <a:ext cx="25884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6" name="Freeform 77"/>
                <p:cNvSpPr/>
                <p:nvPr/>
              </p:nvSpPr>
              <p:spPr>
                <a:xfrm>
                  <a:off x="6888960" y="7574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7" name="Freeform 78"/>
                <p:cNvSpPr/>
                <p:nvPr/>
              </p:nvSpPr>
              <p:spPr>
                <a:xfrm>
                  <a:off x="62524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8" name="Freeform 79"/>
                <p:cNvSpPr/>
                <p:nvPr/>
              </p:nvSpPr>
              <p:spPr>
                <a:xfrm>
                  <a:off x="6725520" y="204840"/>
                  <a:ext cx="4665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9" name="Freeform 80"/>
                <p:cNvSpPr/>
                <p:nvPr/>
              </p:nvSpPr>
              <p:spPr>
                <a:xfrm>
                  <a:off x="6404760" y="174600"/>
                  <a:ext cx="87624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0" name="Freeform 81"/>
                <p:cNvSpPr/>
                <p:nvPr/>
              </p:nvSpPr>
              <p:spPr>
                <a:xfrm>
                  <a:off x="6598440" y="231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1" name="Freeform 82"/>
                <p:cNvSpPr/>
                <p:nvPr/>
              </p:nvSpPr>
              <p:spPr>
                <a:xfrm>
                  <a:off x="65746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2" name="Freeform 83"/>
                <p:cNvSpPr/>
                <p:nvPr/>
              </p:nvSpPr>
              <p:spPr>
                <a:xfrm>
                  <a:off x="6680880" y="3193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3" name="Freeform 84"/>
                <p:cNvSpPr/>
                <p:nvPr/>
              </p:nvSpPr>
              <p:spPr>
                <a:xfrm>
                  <a:off x="6757200" y="320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4" name="Freeform 85"/>
                <p:cNvSpPr/>
                <p:nvPr/>
              </p:nvSpPr>
              <p:spPr>
                <a:xfrm>
                  <a:off x="6528600" y="25560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395" name="Group 109"/>
            <p:cNvGrpSpPr/>
            <p:nvPr/>
          </p:nvGrpSpPr>
          <p:grpSpPr>
            <a:xfrm>
              <a:off x="1266840" y="176400"/>
              <a:ext cx="7464240" cy="663480"/>
              <a:chOff x="1266840" y="176400"/>
              <a:chExt cx="7464240" cy="663480"/>
            </a:xfrm>
          </p:grpSpPr>
          <p:sp>
            <p:nvSpPr>
              <p:cNvPr id="396" name="Line 88"/>
              <p:cNvSpPr/>
              <p:nvPr/>
            </p:nvSpPr>
            <p:spPr>
              <a:xfrm>
                <a:off x="1266840" y="527400"/>
                <a:ext cx="7464240" cy="14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7" name="Line 89"/>
              <p:cNvSpPr/>
              <p:nvPr/>
            </p:nvSpPr>
            <p:spPr>
              <a:xfrm>
                <a:off x="16282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8" name="Line 90"/>
              <p:cNvSpPr/>
              <p:nvPr/>
            </p:nvSpPr>
            <p:spPr>
              <a:xfrm>
                <a:off x="19904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9" name="Line 91"/>
              <p:cNvSpPr/>
              <p:nvPr/>
            </p:nvSpPr>
            <p:spPr>
              <a:xfrm>
                <a:off x="23522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0" name="Line 92"/>
              <p:cNvSpPr/>
              <p:nvPr/>
            </p:nvSpPr>
            <p:spPr>
              <a:xfrm>
                <a:off x="27144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1" name="Line 93"/>
              <p:cNvSpPr/>
              <p:nvPr/>
            </p:nvSpPr>
            <p:spPr>
              <a:xfrm>
                <a:off x="30762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2" name="Line 94"/>
              <p:cNvSpPr/>
              <p:nvPr/>
            </p:nvSpPr>
            <p:spPr>
              <a:xfrm>
                <a:off x="34383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3" name="Line 95"/>
              <p:cNvSpPr/>
              <p:nvPr/>
            </p:nvSpPr>
            <p:spPr>
              <a:xfrm>
                <a:off x="38001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4" name="Line 96"/>
              <p:cNvSpPr/>
              <p:nvPr/>
            </p:nvSpPr>
            <p:spPr>
              <a:xfrm>
                <a:off x="41619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5" name="Line 97"/>
              <p:cNvSpPr/>
              <p:nvPr/>
            </p:nvSpPr>
            <p:spPr>
              <a:xfrm>
                <a:off x="452412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6" name="Line 98"/>
              <p:cNvSpPr/>
              <p:nvPr/>
            </p:nvSpPr>
            <p:spPr>
              <a:xfrm>
                <a:off x="488592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7" name="Line 99"/>
              <p:cNvSpPr/>
              <p:nvPr/>
            </p:nvSpPr>
            <p:spPr>
              <a:xfrm>
                <a:off x="52480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8" name="Line 100"/>
              <p:cNvSpPr/>
              <p:nvPr/>
            </p:nvSpPr>
            <p:spPr>
              <a:xfrm>
                <a:off x="56098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9" name="Line 101"/>
              <p:cNvSpPr/>
              <p:nvPr/>
            </p:nvSpPr>
            <p:spPr>
              <a:xfrm>
                <a:off x="59716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0" name="Line 102"/>
              <p:cNvSpPr/>
              <p:nvPr/>
            </p:nvSpPr>
            <p:spPr>
              <a:xfrm>
                <a:off x="63338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1" name="Line 103"/>
              <p:cNvSpPr/>
              <p:nvPr/>
            </p:nvSpPr>
            <p:spPr>
              <a:xfrm>
                <a:off x="66956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2" name="Line 104"/>
              <p:cNvSpPr/>
              <p:nvPr/>
            </p:nvSpPr>
            <p:spPr>
              <a:xfrm>
                <a:off x="70578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3" name="Line 105"/>
              <p:cNvSpPr/>
              <p:nvPr/>
            </p:nvSpPr>
            <p:spPr>
              <a:xfrm>
                <a:off x="74196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4" name="Line 106"/>
              <p:cNvSpPr/>
              <p:nvPr/>
            </p:nvSpPr>
            <p:spPr>
              <a:xfrm>
                <a:off x="77817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5" name="Line 107"/>
              <p:cNvSpPr/>
              <p:nvPr/>
            </p:nvSpPr>
            <p:spPr>
              <a:xfrm>
                <a:off x="81435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6" name="Line 108"/>
              <p:cNvSpPr/>
              <p:nvPr/>
            </p:nvSpPr>
            <p:spPr>
              <a:xfrm>
                <a:off x="85053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17" name="Group 135"/>
            <p:cNvGrpSpPr/>
            <p:nvPr/>
          </p:nvGrpSpPr>
          <p:grpSpPr>
            <a:xfrm>
              <a:off x="1917720" y="172800"/>
              <a:ext cx="5865840" cy="671760"/>
              <a:chOff x="1917720" y="172800"/>
              <a:chExt cx="5865840" cy="671760"/>
            </a:xfrm>
          </p:grpSpPr>
          <p:sp>
            <p:nvSpPr>
              <p:cNvPr id="418" name="Line 110"/>
              <p:cNvSpPr/>
              <p:nvPr/>
            </p:nvSpPr>
            <p:spPr>
              <a:xfrm>
                <a:off x="4524480" y="174600"/>
                <a:ext cx="1440" cy="2257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9" name="Line 111"/>
              <p:cNvSpPr/>
              <p:nvPr/>
            </p:nvSpPr>
            <p:spPr>
              <a:xfrm>
                <a:off x="4718160" y="527040"/>
                <a:ext cx="1108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0" name="Line 112"/>
              <p:cNvSpPr/>
              <p:nvPr/>
            </p:nvSpPr>
            <p:spPr>
              <a:xfrm>
                <a:off x="4886280" y="555840"/>
                <a:ext cx="180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1" name="Line 113"/>
              <p:cNvSpPr/>
              <p:nvPr/>
            </p:nvSpPr>
            <p:spPr>
              <a:xfrm>
                <a:off x="5248440" y="714600"/>
                <a:ext cx="1440" cy="125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2" name="Line 114"/>
              <p:cNvSpPr/>
              <p:nvPr/>
            </p:nvSpPr>
            <p:spPr>
              <a:xfrm>
                <a:off x="6334200" y="352440"/>
                <a:ext cx="1440" cy="285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3" name="Line 115"/>
              <p:cNvSpPr/>
              <p:nvPr/>
            </p:nvSpPr>
            <p:spPr>
              <a:xfrm>
                <a:off x="618480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4" name="Line 116"/>
              <p:cNvSpPr/>
              <p:nvPr/>
            </p:nvSpPr>
            <p:spPr>
              <a:xfrm>
                <a:off x="6696000" y="374760"/>
                <a:ext cx="180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5" name="Line 117"/>
              <p:cNvSpPr/>
              <p:nvPr/>
            </p:nvSpPr>
            <p:spPr>
              <a:xfrm flipV="1">
                <a:off x="6699240" y="177480"/>
                <a:ext cx="1440" cy="79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6" name="Line 118"/>
              <p:cNvSpPr/>
              <p:nvPr/>
            </p:nvSpPr>
            <p:spPr>
              <a:xfrm flipV="1">
                <a:off x="7058160" y="174240"/>
                <a:ext cx="1440" cy="2890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7" name="Line 119"/>
              <p:cNvSpPr/>
              <p:nvPr/>
            </p:nvSpPr>
            <p:spPr>
              <a:xfrm flipH="1">
                <a:off x="7296120" y="527040"/>
                <a:ext cx="1238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8" name="Line 120"/>
              <p:cNvSpPr/>
              <p:nvPr/>
            </p:nvSpPr>
            <p:spPr>
              <a:xfrm flipH="1">
                <a:off x="7086240" y="527040"/>
                <a:ext cx="982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9" name="Line 121"/>
              <p:cNvSpPr/>
              <p:nvPr/>
            </p:nvSpPr>
            <p:spPr>
              <a:xfrm flipV="1">
                <a:off x="7419240" y="174240"/>
                <a:ext cx="1800" cy="4287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0" name="Line 122"/>
              <p:cNvSpPr/>
              <p:nvPr/>
            </p:nvSpPr>
            <p:spPr>
              <a:xfrm>
                <a:off x="7782120" y="746280"/>
                <a:ext cx="1440" cy="54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1" name="Line 123"/>
              <p:cNvSpPr/>
              <p:nvPr/>
            </p:nvSpPr>
            <p:spPr>
              <a:xfrm>
                <a:off x="3438720" y="181080"/>
                <a:ext cx="144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2" name="Line 124"/>
              <p:cNvSpPr/>
              <p:nvPr/>
            </p:nvSpPr>
            <p:spPr>
              <a:xfrm>
                <a:off x="3076560" y="176400"/>
                <a:ext cx="1800" cy="5349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3" name="Line 125"/>
              <p:cNvSpPr/>
              <p:nvPr/>
            </p:nvSpPr>
            <p:spPr>
              <a:xfrm flipH="1">
                <a:off x="3035160" y="527040"/>
                <a:ext cx="1080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4" name="Line 126"/>
              <p:cNvSpPr/>
              <p:nvPr/>
            </p:nvSpPr>
            <p:spPr>
              <a:xfrm>
                <a:off x="2822760" y="527040"/>
                <a:ext cx="950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5" name="Line 127"/>
              <p:cNvSpPr/>
              <p:nvPr/>
            </p:nvSpPr>
            <p:spPr>
              <a:xfrm flipH="1">
                <a:off x="2504880" y="527040"/>
                <a:ext cx="12996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6" name="Line 128"/>
              <p:cNvSpPr/>
              <p:nvPr/>
            </p:nvSpPr>
            <p:spPr>
              <a:xfrm>
                <a:off x="191772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7" name="Line 129"/>
              <p:cNvSpPr/>
              <p:nvPr/>
            </p:nvSpPr>
            <p:spPr>
              <a:xfrm>
                <a:off x="2349360" y="371520"/>
                <a:ext cx="1800" cy="473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8" name="Line 130"/>
              <p:cNvSpPr/>
              <p:nvPr/>
            </p:nvSpPr>
            <p:spPr>
              <a:xfrm>
                <a:off x="1990800" y="400320"/>
                <a:ext cx="1440" cy="247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9" name="Line 131"/>
              <p:cNvSpPr/>
              <p:nvPr/>
            </p:nvSpPr>
            <p:spPr>
              <a:xfrm flipH="1" flipV="1">
                <a:off x="2352240" y="172800"/>
                <a:ext cx="1800" cy="42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40" name="Line 132"/>
              <p:cNvSpPr/>
              <p:nvPr/>
            </p:nvSpPr>
            <p:spPr>
              <a:xfrm>
                <a:off x="2714760" y="285840"/>
                <a:ext cx="144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41" name="Line 133"/>
              <p:cNvSpPr/>
              <p:nvPr/>
            </p:nvSpPr>
            <p:spPr>
              <a:xfrm flipV="1">
                <a:off x="2714760" y="176040"/>
                <a:ext cx="1440" cy="3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42" name="Line 134"/>
              <p:cNvSpPr/>
              <p:nvPr/>
            </p:nvSpPr>
            <p:spPr>
              <a:xfrm>
                <a:off x="6777000" y="525600"/>
                <a:ext cx="127080" cy="14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Times New Roman Italic"/>
              </a:rPr>
              <a:t>            </a:t>
            </a:r>
            <a:r>
              <a:rPr b="0" lang="en-US" sz="4400" spc="-1" strike="noStrike">
                <a:solidFill>
                  <a:srgbClr val="262673"/>
                </a:solidFill>
                <a:latin typeface="Times New Roman Italic"/>
              </a:rPr>
              <a:t>Karma &amp; Dharma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444" name="Rectangle 138"/>
          <p:cNvSpPr/>
          <p:nvPr/>
        </p:nvSpPr>
        <p:spPr>
          <a:xfrm>
            <a:off x="762120" y="2666880"/>
            <a:ext cx="6946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rma:  “action” or “deed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action produces a Justified effect based on its moral worthines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ma determines all the particular circumstances and Situations of one’s lif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harma:  ethical duty based on the divine order of reality. The word is the closest equivalent to “religion.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136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447" name="Freeform 2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400"/>
                  </a:move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  <a:cubicBezTo>
                    <a:pt x="717" y="17250"/>
                    <a:pt x="753" y="3050"/>
                    <a:pt x="0" y="0"/>
                  </a:cubicBezTo>
                  <a:cubicBezTo>
                    <a:pt x="10800" y="0"/>
                    <a:pt x="21600" y="0"/>
                    <a:pt x="21600" y="0"/>
                  </a:cubicBezTo>
                  <a:lnTo>
                    <a:pt x="21600" y="2400"/>
                  </a:lnTo>
                  <a:close/>
                  <a:moveTo>
                    <a:pt x="21600" y="2400"/>
                  </a:moveTo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448" name="Group 87"/>
            <p:cNvGrpSpPr/>
            <p:nvPr/>
          </p:nvGrpSpPr>
          <p:grpSpPr>
            <a:xfrm>
              <a:off x="1897200" y="165240"/>
              <a:ext cx="6031800" cy="681120"/>
              <a:chOff x="1897200" y="165240"/>
              <a:chExt cx="6031800" cy="681120"/>
            </a:xfrm>
          </p:grpSpPr>
          <p:grpSp>
            <p:nvGrpSpPr>
              <p:cNvPr id="449" name="Group 50"/>
              <p:cNvGrpSpPr/>
              <p:nvPr/>
            </p:nvGrpSpPr>
            <p:grpSpPr>
              <a:xfrm>
                <a:off x="1897200" y="166680"/>
                <a:ext cx="3505680" cy="677880"/>
                <a:chOff x="1897200" y="166680"/>
                <a:chExt cx="3505680" cy="677880"/>
              </a:xfrm>
            </p:grpSpPr>
            <p:sp>
              <p:nvSpPr>
                <p:cNvPr id="450" name="Freeform 3"/>
                <p:cNvSpPr/>
                <p:nvPr/>
              </p:nvSpPr>
              <p:spPr>
                <a:xfrm>
                  <a:off x="3641760" y="7621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1" name="Freeform 4"/>
                <p:cNvSpPr/>
                <p:nvPr/>
              </p:nvSpPr>
              <p:spPr>
                <a:xfrm>
                  <a:off x="3327480" y="79200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2" name="Freeform 5"/>
                <p:cNvSpPr/>
                <p:nvPr/>
              </p:nvSpPr>
              <p:spPr>
                <a:xfrm>
                  <a:off x="3279960" y="79056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3" name="Freeform 6"/>
                <p:cNvSpPr/>
                <p:nvPr/>
              </p:nvSpPr>
              <p:spPr>
                <a:xfrm>
                  <a:off x="3030840" y="652320"/>
                  <a:ext cx="237960" cy="14616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4" name="Freeform 7"/>
                <p:cNvSpPr/>
                <p:nvPr/>
              </p:nvSpPr>
              <p:spPr>
                <a:xfrm>
                  <a:off x="3176640" y="642960"/>
                  <a:ext cx="10332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5" name="Freeform 8"/>
                <p:cNvSpPr/>
                <p:nvPr/>
              </p:nvSpPr>
              <p:spPr>
                <a:xfrm>
                  <a:off x="327996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6" name="Freeform 9"/>
                <p:cNvSpPr/>
                <p:nvPr/>
              </p:nvSpPr>
              <p:spPr>
                <a:xfrm>
                  <a:off x="3276720" y="717480"/>
                  <a:ext cx="4464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7" name="Freeform 10"/>
                <p:cNvSpPr/>
                <p:nvPr/>
              </p:nvSpPr>
              <p:spPr>
                <a:xfrm>
                  <a:off x="3362400" y="68724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8" name="Freeform 11"/>
                <p:cNvSpPr/>
                <p:nvPr/>
              </p:nvSpPr>
              <p:spPr>
                <a:xfrm>
                  <a:off x="3368880" y="736560"/>
                  <a:ext cx="31680" cy="1116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9" name="Freeform 12"/>
                <p:cNvSpPr/>
                <p:nvPr/>
              </p:nvSpPr>
              <p:spPr>
                <a:xfrm>
                  <a:off x="3402000" y="7128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0" name="Freeform 13"/>
                <p:cNvSpPr/>
                <p:nvPr/>
              </p:nvSpPr>
              <p:spPr>
                <a:xfrm>
                  <a:off x="3413160" y="725400"/>
                  <a:ext cx="19224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1" name="Freeform 14"/>
                <p:cNvSpPr/>
                <p:nvPr/>
              </p:nvSpPr>
              <p:spPr>
                <a:xfrm>
                  <a:off x="3581640" y="73512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2" name="Freeform 15"/>
                <p:cNvSpPr/>
                <p:nvPr/>
              </p:nvSpPr>
              <p:spPr>
                <a:xfrm>
                  <a:off x="3762720" y="71136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3051" h="21600">
                      <a:moveTo>
                        <a:pt x="1490" y="13745"/>
                      </a:moveTo>
                      <a:cubicBezTo>
                        <a:pt x="-1002" y="5891"/>
                        <a:pt x="-1002" y="2945"/>
                        <a:pt x="6475" y="0"/>
                      </a:cubicBezTo>
                      <a:cubicBezTo>
                        <a:pt x="16444" y="3927"/>
                        <a:pt x="13952" y="15709"/>
                        <a:pt x="6475" y="21600"/>
                      </a:cubicBezTo>
                      <a:cubicBezTo>
                        <a:pt x="-5156" y="16691"/>
                        <a:pt x="5644" y="2945"/>
                        <a:pt x="1490" y="13745"/>
                      </a:cubicBezTo>
                      <a:close/>
                      <a:moveTo>
                        <a:pt x="1490" y="137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3" name="Freeform 16"/>
                <p:cNvSpPr/>
                <p:nvPr/>
              </p:nvSpPr>
              <p:spPr>
                <a:xfrm>
                  <a:off x="330840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4" name="Freeform 17"/>
                <p:cNvSpPr/>
                <p:nvPr/>
              </p:nvSpPr>
              <p:spPr>
                <a:xfrm>
                  <a:off x="3292560" y="523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5" name="Freeform 18"/>
                <p:cNvSpPr/>
                <p:nvPr/>
              </p:nvSpPr>
              <p:spPr>
                <a:xfrm>
                  <a:off x="3308400" y="59040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6" name="Freeform 19"/>
                <p:cNvSpPr/>
                <p:nvPr/>
              </p:nvSpPr>
              <p:spPr>
                <a:xfrm>
                  <a:off x="3262320" y="596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7" name="Freeform 20"/>
                <p:cNvSpPr/>
                <p:nvPr/>
              </p:nvSpPr>
              <p:spPr>
                <a:xfrm>
                  <a:off x="4928040" y="56052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963" y="21523"/>
                      </a:moveTo>
                      <a:cubicBezTo>
                        <a:pt x="1468" y="21600"/>
                        <a:pt x="1146" y="19448"/>
                        <a:pt x="1101" y="19217"/>
                      </a:cubicBezTo>
                      <a:cubicBezTo>
                        <a:pt x="1055" y="19063"/>
                        <a:pt x="1009" y="18833"/>
                        <a:pt x="1009" y="18833"/>
                      </a:cubicBezTo>
                      <a:cubicBezTo>
                        <a:pt x="963" y="18679"/>
                        <a:pt x="917" y="16988"/>
                        <a:pt x="734" y="16757"/>
                      </a:cubicBezTo>
                      <a:cubicBezTo>
                        <a:pt x="596" y="16604"/>
                        <a:pt x="183" y="16527"/>
                        <a:pt x="183" y="16527"/>
                      </a:cubicBezTo>
                      <a:cubicBezTo>
                        <a:pt x="0" y="15912"/>
                        <a:pt x="138" y="15374"/>
                        <a:pt x="0" y="14682"/>
                      </a:cubicBezTo>
                      <a:cubicBezTo>
                        <a:pt x="92" y="14221"/>
                        <a:pt x="321" y="14298"/>
                        <a:pt x="550" y="13836"/>
                      </a:cubicBezTo>
                      <a:cubicBezTo>
                        <a:pt x="642" y="13221"/>
                        <a:pt x="642" y="12991"/>
                        <a:pt x="275" y="12683"/>
                      </a:cubicBezTo>
                      <a:cubicBezTo>
                        <a:pt x="183" y="12530"/>
                        <a:pt x="92" y="12453"/>
                        <a:pt x="92" y="12299"/>
                      </a:cubicBezTo>
                      <a:cubicBezTo>
                        <a:pt x="92" y="11530"/>
                        <a:pt x="734" y="9455"/>
                        <a:pt x="1284" y="9224"/>
                      </a:cubicBezTo>
                      <a:cubicBezTo>
                        <a:pt x="1468" y="8532"/>
                        <a:pt x="1834" y="8071"/>
                        <a:pt x="2018" y="7379"/>
                      </a:cubicBezTo>
                      <a:cubicBezTo>
                        <a:pt x="1789" y="6380"/>
                        <a:pt x="1743" y="6534"/>
                        <a:pt x="1926" y="5381"/>
                      </a:cubicBezTo>
                      <a:cubicBezTo>
                        <a:pt x="1743" y="4612"/>
                        <a:pt x="1559" y="3690"/>
                        <a:pt x="1101" y="3305"/>
                      </a:cubicBezTo>
                      <a:cubicBezTo>
                        <a:pt x="825" y="2767"/>
                        <a:pt x="459" y="2844"/>
                        <a:pt x="917" y="2460"/>
                      </a:cubicBezTo>
                      <a:cubicBezTo>
                        <a:pt x="1238" y="2614"/>
                        <a:pt x="1192" y="2460"/>
                        <a:pt x="1192" y="2767"/>
                      </a:cubicBezTo>
                      <a:cubicBezTo>
                        <a:pt x="1559" y="3152"/>
                        <a:pt x="1789" y="2998"/>
                        <a:pt x="2201" y="2690"/>
                      </a:cubicBezTo>
                      <a:cubicBezTo>
                        <a:pt x="2064" y="1691"/>
                        <a:pt x="2201" y="1076"/>
                        <a:pt x="2935" y="846"/>
                      </a:cubicBezTo>
                      <a:cubicBezTo>
                        <a:pt x="3256" y="615"/>
                        <a:pt x="3439" y="231"/>
                        <a:pt x="3761" y="0"/>
                      </a:cubicBezTo>
                      <a:cubicBezTo>
                        <a:pt x="3852" y="77"/>
                        <a:pt x="4036" y="0"/>
                        <a:pt x="4036" y="154"/>
                      </a:cubicBezTo>
                      <a:cubicBezTo>
                        <a:pt x="4127" y="922"/>
                        <a:pt x="3439" y="999"/>
                        <a:pt x="4219" y="692"/>
                      </a:cubicBezTo>
                      <a:cubicBezTo>
                        <a:pt x="4311" y="615"/>
                        <a:pt x="4403" y="384"/>
                        <a:pt x="4494" y="384"/>
                      </a:cubicBezTo>
                      <a:cubicBezTo>
                        <a:pt x="4678" y="307"/>
                        <a:pt x="4861" y="538"/>
                        <a:pt x="5045" y="615"/>
                      </a:cubicBezTo>
                      <a:cubicBezTo>
                        <a:pt x="5136" y="615"/>
                        <a:pt x="5320" y="692"/>
                        <a:pt x="5320" y="692"/>
                      </a:cubicBezTo>
                      <a:cubicBezTo>
                        <a:pt x="5595" y="1230"/>
                        <a:pt x="5916" y="999"/>
                        <a:pt x="6466" y="1076"/>
                      </a:cubicBezTo>
                      <a:cubicBezTo>
                        <a:pt x="6558" y="1614"/>
                        <a:pt x="6741" y="1691"/>
                        <a:pt x="7108" y="1845"/>
                      </a:cubicBezTo>
                      <a:cubicBezTo>
                        <a:pt x="7292" y="1691"/>
                        <a:pt x="7475" y="1537"/>
                        <a:pt x="7659" y="1307"/>
                      </a:cubicBezTo>
                      <a:cubicBezTo>
                        <a:pt x="7750" y="1230"/>
                        <a:pt x="7934" y="1076"/>
                        <a:pt x="7934" y="1076"/>
                      </a:cubicBezTo>
                      <a:cubicBezTo>
                        <a:pt x="8943" y="1999"/>
                        <a:pt x="8025" y="1537"/>
                        <a:pt x="8943" y="1076"/>
                      </a:cubicBezTo>
                      <a:cubicBezTo>
                        <a:pt x="9493" y="1307"/>
                        <a:pt x="9218" y="1999"/>
                        <a:pt x="9676" y="2460"/>
                      </a:cubicBezTo>
                      <a:cubicBezTo>
                        <a:pt x="9814" y="2921"/>
                        <a:pt x="10273" y="4228"/>
                        <a:pt x="10594" y="4535"/>
                      </a:cubicBezTo>
                      <a:cubicBezTo>
                        <a:pt x="11052" y="5381"/>
                        <a:pt x="10777" y="5150"/>
                        <a:pt x="11236" y="5381"/>
                      </a:cubicBezTo>
                      <a:cubicBezTo>
                        <a:pt x="11419" y="5304"/>
                        <a:pt x="11603" y="5304"/>
                        <a:pt x="11786" y="5227"/>
                      </a:cubicBezTo>
                      <a:cubicBezTo>
                        <a:pt x="11969" y="5150"/>
                        <a:pt x="12382" y="4996"/>
                        <a:pt x="12382" y="4996"/>
                      </a:cubicBezTo>
                      <a:cubicBezTo>
                        <a:pt x="12749" y="5073"/>
                        <a:pt x="12978" y="5150"/>
                        <a:pt x="13299" y="5458"/>
                      </a:cubicBezTo>
                      <a:cubicBezTo>
                        <a:pt x="13941" y="6764"/>
                        <a:pt x="12932" y="4766"/>
                        <a:pt x="13758" y="6226"/>
                      </a:cubicBezTo>
                      <a:cubicBezTo>
                        <a:pt x="13850" y="6457"/>
                        <a:pt x="14125" y="6918"/>
                        <a:pt x="14125" y="6918"/>
                      </a:cubicBezTo>
                      <a:cubicBezTo>
                        <a:pt x="14262" y="7533"/>
                        <a:pt x="14446" y="7917"/>
                        <a:pt x="14583" y="8532"/>
                      </a:cubicBezTo>
                      <a:cubicBezTo>
                        <a:pt x="14629" y="8763"/>
                        <a:pt x="14721" y="8994"/>
                        <a:pt x="14767" y="9224"/>
                      </a:cubicBezTo>
                      <a:cubicBezTo>
                        <a:pt x="14813" y="9378"/>
                        <a:pt x="14859" y="9609"/>
                        <a:pt x="14859" y="9609"/>
                      </a:cubicBezTo>
                      <a:cubicBezTo>
                        <a:pt x="14721" y="10147"/>
                        <a:pt x="14354" y="10300"/>
                        <a:pt x="14217" y="10915"/>
                      </a:cubicBezTo>
                      <a:cubicBezTo>
                        <a:pt x="14354" y="11607"/>
                        <a:pt x="14538" y="11223"/>
                        <a:pt x="14767" y="10838"/>
                      </a:cubicBezTo>
                      <a:cubicBezTo>
                        <a:pt x="15638" y="10992"/>
                        <a:pt x="15546" y="10915"/>
                        <a:pt x="15684" y="11915"/>
                      </a:cubicBezTo>
                      <a:cubicBezTo>
                        <a:pt x="16097" y="11530"/>
                        <a:pt x="16280" y="11684"/>
                        <a:pt x="16693" y="12068"/>
                      </a:cubicBezTo>
                      <a:cubicBezTo>
                        <a:pt x="16922" y="12453"/>
                        <a:pt x="17060" y="12760"/>
                        <a:pt x="17427" y="12914"/>
                      </a:cubicBezTo>
                      <a:cubicBezTo>
                        <a:pt x="17473" y="12991"/>
                        <a:pt x="17564" y="13144"/>
                        <a:pt x="17518" y="13221"/>
                      </a:cubicBezTo>
                      <a:cubicBezTo>
                        <a:pt x="17427" y="13529"/>
                        <a:pt x="16876" y="13221"/>
                        <a:pt x="17518" y="13529"/>
                      </a:cubicBezTo>
                      <a:cubicBezTo>
                        <a:pt x="17702" y="13452"/>
                        <a:pt x="17885" y="13298"/>
                        <a:pt x="18069" y="13221"/>
                      </a:cubicBezTo>
                      <a:cubicBezTo>
                        <a:pt x="18161" y="13221"/>
                        <a:pt x="18344" y="13144"/>
                        <a:pt x="18344" y="13144"/>
                      </a:cubicBezTo>
                      <a:cubicBezTo>
                        <a:pt x="18940" y="13606"/>
                        <a:pt x="19582" y="13759"/>
                        <a:pt x="20132" y="14221"/>
                      </a:cubicBezTo>
                      <a:cubicBezTo>
                        <a:pt x="20224" y="14605"/>
                        <a:pt x="20408" y="14912"/>
                        <a:pt x="20499" y="15297"/>
                      </a:cubicBezTo>
                      <a:cubicBezTo>
                        <a:pt x="20775" y="15220"/>
                        <a:pt x="21096" y="14989"/>
                        <a:pt x="21325" y="15451"/>
                      </a:cubicBezTo>
                      <a:cubicBezTo>
                        <a:pt x="21462" y="15758"/>
                        <a:pt x="21600" y="16527"/>
                        <a:pt x="21600" y="16527"/>
                      </a:cubicBezTo>
                      <a:cubicBezTo>
                        <a:pt x="21462" y="17757"/>
                        <a:pt x="21508" y="19063"/>
                        <a:pt x="20683" y="19832"/>
                      </a:cubicBezTo>
                      <a:cubicBezTo>
                        <a:pt x="20499" y="20140"/>
                        <a:pt x="20041" y="21139"/>
                        <a:pt x="19949" y="21600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8" name="Freeform 21"/>
                <p:cNvSpPr/>
                <p:nvPr/>
              </p:nvSpPr>
              <p:spPr>
                <a:xfrm>
                  <a:off x="4304160" y="168120"/>
                  <a:ext cx="647640" cy="446400"/>
                </a:xfrm>
                <a:custGeom>
                  <a:avLst/>
                  <a:gdLst/>
                  <a:ahLst/>
                  <a:rect l="l" t="t" r="r" b="b"/>
                  <a:pathLst>
                    <a:path w="21006" h="21465">
                      <a:moveTo>
                        <a:pt x="1623" y="922"/>
                      </a:moveTo>
                      <a:lnTo>
                        <a:pt x="8735" y="103"/>
                      </a:lnTo>
                      <a:cubicBezTo>
                        <a:pt x="10733" y="512"/>
                        <a:pt x="10030" y="-51"/>
                        <a:pt x="10228" y="1331"/>
                      </a:cubicBezTo>
                      <a:cubicBezTo>
                        <a:pt x="10623" y="1177"/>
                        <a:pt x="10447" y="973"/>
                        <a:pt x="10843" y="819"/>
                      </a:cubicBezTo>
                      <a:cubicBezTo>
                        <a:pt x="11018" y="896"/>
                        <a:pt x="11172" y="1126"/>
                        <a:pt x="11369" y="1126"/>
                      </a:cubicBezTo>
                      <a:cubicBezTo>
                        <a:pt x="11545" y="1126"/>
                        <a:pt x="11896" y="922"/>
                        <a:pt x="11896" y="922"/>
                      </a:cubicBezTo>
                      <a:cubicBezTo>
                        <a:pt x="12028" y="1357"/>
                        <a:pt x="11940" y="1485"/>
                        <a:pt x="11721" y="1843"/>
                      </a:cubicBezTo>
                      <a:cubicBezTo>
                        <a:pt x="12006" y="2867"/>
                        <a:pt x="11896" y="2559"/>
                        <a:pt x="12511" y="3276"/>
                      </a:cubicBezTo>
                      <a:cubicBezTo>
                        <a:pt x="12643" y="3737"/>
                        <a:pt x="12774" y="3737"/>
                        <a:pt x="13125" y="3481"/>
                      </a:cubicBezTo>
                      <a:cubicBezTo>
                        <a:pt x="12994" y="2994"/>
                        <a:pt x="12862" y="2687"/>
                        <a:pt x="12686" y="2252"/>
                      </a:cubicBezTo>
                      <a:cubicBezTo>
                        <a:pt x="12621" y="2048"/>
                        <a:pt x="12511" y="1638"/>
                        <a:pt x="12511" y="1638"/>
                      </a:cubicBezTo>
                      <a:cubicBezTo>
                        <a:pt x="12664" y="1075"/>
                        <a:pt x="12928" y="1382"/>
                        <a:pt x="13125" y="1740"/>
                      </a:cubicBezTo>
                      <a:cubicBezTo>
                        <a:pt x="13191" y="2150"/>
                        <a:pt x="13169" y="2943"/>
                        <a:pt x="13564" y="2252"/>
                      </a:cubicBezTo>
                      <a:cubicBezTo>
                        <a:pt x="14047" y="2431"/>
                        <a:pt x="14003" y="2611"/>
                        <a:pt x="13916" y="3174"/>
                      </a:cubicBezTo>
                      <a:cubicBezTo>
                        <a:pt x="14091" y="3788"/>
                        <a:pt x="14421" y="3558"/>
                        <a:pt x="14794" y="3276"/>
                      </a:cubicBezTo>
                      <a:cubicBezTo>
                        <a:pt x="14947" y="2713"/>
                        <a:pt x="14596" y="3122"/>
                        <a:pt x="14794" y="2457"/>
                      </a:cubicBezTo>
                      <a:cubicBezTo>
                        <a:pt x="14816" y="2355"/>
                        <a:pt x="14969" y="2406"/>
                        <a:pt x="15057" y="2355"/>
                      </a:cubicBezTo>
                      <a:cubicBezTo>
                        <a:pt x="15145" y="2304"/>
                        <a:pt x="15233" y="2227"/>
                        <a:pt x="15321" y="2150"/>
                      </a:cubicBezTo>
                      <a:cubicBezTo>
                        <a:pt x="15562" y="1331"/>
                        <a:pt x="14925" y="1331"/>
                        <a:pt x="16111" y="1126"/>
                      </a:cubicBezTo>
                      <a:cubicBezTo>
                        <a:pt x="16243" y="640"/>
                        <a:pt x="16089" y="179"/>
                        <a:pt x="16550" y="0"/>
                      </a:cubicBezTo>
                      <a:cubicBezTo>
                        <a:pt x="17121" y="231"/>
                        <a:pt x="16879" y="922"/>
                        <a:pt x="17428" y="1126"/>
                      </a:cubicBezTo>
                      <a:cubicBezTo>
                        <a:pt x="18064" y="870"/>
                        <a:pt x="17494" y="1561"/>
                        <a:pt x="17340" y="1740"/>
                      </a:cubicBezTo>
                      <a:cubicBezTo>
                        <a:pt x="17143" y="2406"/>
                        <a:pt x="17099" y="2406"/>
                        <a:pt x="17428" y="2969"/>
                      </a:cubicBezTo>
                      <a:cubicBezTo>
                        <a:pt x="17406" y="3071"/>
                        <a:pt x="17406" y="3199"/>
                        <a:pt x="17340" y="3276"/>
                      </a:cubicBezTo>
                      <a:cubicBezTo>
                        <a:pt x="17252" y="3353"/>
                        <a:pt x="17033" y="3250"/>
                        <a:pt x="16989" y="3378"/>
                      </a:cubicBezTo>
                      <a:cubicBezTo>
                        <a:pt x="16945" y="3583"/>
                        <a:pt x="17164" y="3993"/>
                        <a:pt x="17164" y="3993"/>
                      </a:cubicBezTo>
                      <a:cubicBezTo>
                        <a:pt x="17077" y="4069"/>
                        <a:pt x="17011" y="4172"/>
                        <a:pt x="16901" y="4197"/>
                      </a:cubicBezTo>
                      <a:cubicBezTo>
                        <a:pt x="16813" y="4223"/>
                        <a:pt x="16703" y="4018"/>
                        <a:pt x="16638" y="4095"/>
                      </a:cubicBezTo>
                      <a:cubicBezTo>
                        <a:pt x="16462" y="4300"/>
                        <a:pt x="17252" y="4607"/>
                        <a:pt x="17252" y="4607"/>
                      </a:cubicBezTo>
                      <a:cubicBezTo>
                        <a:pt x="17472" y="5349"/>
                        <a:pt x="16835" y="4812"/>
                        <a:pt x="16550" y="4709"/>
                      </a:cubicBezTo>
                      <a:cubicBezTo>
                        <a:pt x="16660" y="4914"/>
                        <a:pt x="16791" y="5119"/>
                        <a:pt x="16901" y="5323"/>
                      </a:cubicBezTo>
                      <a:cubicBezTo>
                        <a:pt x="17011" y="5528"/>
                        <a:pt x="17428" y="5733"/>
                        <a:pt x="17428" y="5733"/>
                      </a:cubicBezTo>
                      <a:cubicBezTo>
                        <a:pt x="17669" y="6142"/>
                        <a:pt x="17472" y="6219"/>
                        <a:pt x="17603" y="6654"/>
                      </a:cubicBezTo>
                      <a:cubicBezTo>
                        <a:pt x="17450" y="7166"/>
                        <a:pt x="17230" y="7652"/>
                        <a:pt x="17077" y="8190"/>
                      </a:cubicBezTo>
                      <a:cubicBezTo>
                        <a:pt x="17011" y="8394"/>
                        <a:pt x="16901" y="8804"/>
                        <a:pt x="16901" y="8804"/>
                      </a:cubicBezTo>
                      <a:cubicBezTo>
                        <a:pt x="17055" y="9316"/>
                        <a:pt x="17757" y="10032"/>
                        <a:pt x="18043" y="10544"/>
                      </a:cubicBezTo>
                      <a:cubicBezTo>
                        <a:pt x="18152" y="10749"/>
                        <a:pt x="18284" y="10954"/>
                        <a:pt x="18394" y="11158"/>
                      </a:cubicBezTo>
                      <a:cubicBezTo>
                        <a:pt x="18460" y="11261"/>
                        <a:pt x="18569" y="11466"/>
                        <a:pt x="18569" y="11466"/>
                      </a:cubicBezTo>
                      <a:cubicBezTo>
                        <a:pt x="18547" y="11645"/>
                        <a:pt x="18591" y="11875"/>
                        <a:pt x="18482" y="11977"/>
                      </a:cubicBezTo>
                      <a:cubicBezTo>
                        <a:pt x="18350" y="12105"/>
                        <a:pt x="18064" y="11491"/>
                        <a:pt x="18043" y="11466"/>
                      </a:cubicBezTo>
                      <a:cubicBezTo>
                        <a:pt x="17625" y="10979"/>
                        <a:pt x="17143" y="10723"/>
                        <a:pt x="16813" y="10135"/>
                      </a:cubicBezTo>
                      <a:cubicBezTo>
                        <a:pt x="16703" y="9649"/>
                        <a:pt x="16638" y="9444"/>
                        <a:pt x="16199" y="9623"/>
                      </a:cubicBezTo>
                      <a:cubicBezTo>
                        <a:pt x="15562" y="9367"/>
                        <a:pt x="15847" y="9367"/>
                        <a:pt x="15321" y="9521"/>
                      </a:cubicBezTo>
                      <a:cubicBezTo>
                        <a:pt x="14925" y="10237"/>
                        <a:pt x="15167" y="10058"/>
                        <a:pt x="14706" y="10237"/>
                      </a:cubicBezTo>
                      <a:cubicBezTo>
                        <a:pt x="14179" y="9828"/>
                        <a:pt x="14091" y="9930"/>
                        <a:pt x="13389" y="10032"/>
                      </a:cubicBezTo>
                      <a:cubicBezTo>
                        <a:pt x="13147" y="10467"/>
                        <a:pt x="13016" y="10851"/>
                        <a:pt x="12774" y="11261"/>
                      </a:cubicBezTo>
                      <a:cubicBezTo>
                        <a:pt x="12994" y="12003"/>
                        <a:pt x="12840" y="11696"/>
                        <a:pt x="13125" y="12182"/>
                      </a:cubicBezTo>
                      <a:cubicBezTo>
                        <a:pt x="12840" y="13206"/>
                        <a:pt x="13477" y="13974"/>
                        <a:pt x="13916" y="14741"/>
                      </a:cubicBezTo>
                      <a:cubicBezTo>
                        <a:pt x="14113" y="15074"/>
                        <a:pt x="14113" y="15330"/>
                        <a:pt x="14443" y="15458"/>
                      </a:cubicBezTo>
                      <a:cubicBezTo>
                        <a:pt x="14750" y="15995"/>
                        <a:pt x="14991" y="15893"/>
                        <a:pt x="15408" y="15560"/>
                      </a:cubicBezTo>
                      <a:cubicBezTo>
                        <a:pt x="15825" y="15714"/>
                        <a:pt x="15825" y="15458"/>
                        <a:pt x="15935" y="15049"/>
                      </a:cubicBezTo>
                      <a:cubicBezTo>
                        <a:pt x="15957" y="14716"/>
                        <a:pt x="15869" y="14332"/>
                        <a:pt x="16023" y="14025"/>
                      </a:cubicBezTo>
                      <a:cubicBezTo>
                        <a:pt x="16111" y="13846"/>
                        <a:pt x="16550" y="13820"/>
                        <a:pt x="16550" y="13820"/>
                      </a:cubicBezTo>
                      <a:cubicBezTo>
                        <a:pt x="17011" y="13948"/>
                        <a:pt x="17077" y="14076"/>
                        <a:pt x="16813" y="14537"/>
                      </a:cubicBezTo>
                      <a:cubicBezTo>
                        <a:pt x="16923" y="15049"/>
                        <a:pt x="17164" y="15432"/>
                        <a:pt x="16725" y="15765"/>
                      </a:cubicBezTo>
                      <a:cubicBezTo>
                        <a:pt x="16703" y="15867"/>
                        <a:pt x="16594" y="15970"/>
                        <a:pt x="16638" y="16072"/>
                      </a:cubicBezTo>
                      <a:cubicBezTo>
                        <a:pt x="16682" y="16175"/>
                        <a:pt x="16835" y="16175"/>
                        <a:pt x="16901" y="16277"/>
                      </a:cubicBezTo>
                      <a:cubicBezTo>
                        <a:pt x="17121" y="16610"/>
                        <a:pt x="17077" y="16840"/>
                        <a:pt x="17428" y="17096"/>
                      </a:cubicBezTo>
                      <a:cubicBezTo>
                        <a:pt x="17603" y="17019"/>
                        <a:pt x="17779" y="16968"/>
                        <a:pt x="17955" y="16891"/>
                      </a:cubicBezTo>
                      <a:cubicBezTo>
                        <a:pt x="18043" y="16866"/>
                        <a:pt x="18218" y="16789"/>
                        <a:pt x="18218" y="16789"/>
                      </a:cubicBezTo>
                      <a:cubicBezTo>
                        <a:pt x="18635" y="16942"/>
                        <a:pt x="18789" y="17352"/>
                        <a:pt x="18921" y="17813"/>
                      </a:cubicBezTo>
                      <a:cubicBezTo>
                        <a:pt x="18679" y="18657"/>
                        <a:pt x="19294" y="20269"/>
                        <a:pt x="20062" y="20576"/>
                      </a:cubicBezTo>
                      <a:cubicBezTo>
                        <a:pt x="20413" y="20449"/>
                        <a:pt x="20479" y="20218"/>
                        <a:pt x="20852" y="20372"/>
                      </a:cubicBezTo>
                      <a:cubicBezTo>
                        <a:pt x="21423" y="21370"/>
                        <a:pt x="20194" y="20013"/>
                        <a:pt x="20501" y="21088"/>
                      </a:cubicBezTo>
                      <a:cubicBezTo>
                        <a:pt x="20369" y="21549"/>
                        <a:pt x="20238" y="21549"/>
                        <a:pt x="19886" y="21293"/>
                      </a:cubicBezTo>
                      <a:cubicBezTo>
                        <a:pt x="19645" y="20858"/>
                        <a:pt x="19360" y="20960"/>
                        <a:pt x="19008" y="20679"/>
                      </a:cubicBezTo>
                      <a:cubicBezTo>
                        <a:pt x="18503" y="19809"/>
                        <a:pt x="19184" y="20832"/>
                        <a:pt x="18569" y="20269"/>
                      </a:cubicBezTo>
                      <a:cubicBezTo>
                        <a:pt x="18328" y="20039"/>
                        <a:pt x="18262" y="19604"/>
                        <a:pt x="18043" y="19348"/>
                      </a:cubicBezTo>
                      <a:cubicBezTo>
                        <a:pt x="17911" y="18862"/>
                        <a:pt x="17757" y="18478"/>
                        <a:pt x="17340" y="18324"/>
                      </a:cubicBezTo>
                      <a:cubicBezTo>
                        <a:pt x="17186" y="17761"/>
                        <a:pt x="17384" y="18171"/>
                        <a:pt x="16901" y="18120"/>
                      </a:cubicBezTo>
                      <a:cubicBezTo>
                        <a:pt x="16660" y="18094"/>
                        <a:pt x="16199" y="17915"/>
                        <a:pt x="16199" y="17915"/>
                      </a:cubicBezTo>
                      <a:cubicBezTo>
                        <a:pt x="15825" y="17633"/>
                        <a:pt x="15628" y="17198"/>
                        <a:pt x="15233" y="16891"/>
                      </a:cubicBezTo>
                      <a:cubicBezTo>
                        <a:pt x="15057" y="16968"/>
                        <a:pt x="14903" y="17173"/>
                        <a:pt x="14706" y="17198"/>
                      </a:cubicBezTo>
                      <a:cubicBezTo>
                        <a:pt x="14245" y="17275"/>
                        <a:pt x="13652" y="16763"/>
                        <a:pt x="13301" y="16482"/>
                      </a:cubicBezTo>
                      <a:cubicBezTo>
                        <a:pt x="12994" y="16251"/>
                        <a:pt x="12555" y="16303"/>
                        <a:pt x="12247" y="16072"/>
                      </a:cubicBezTo>
                      <a:cubicBezTo>
                        <a:pt x="11808" y="15740"/>
                        <a:pt x="11347" y="15484"/>
                        <a:pt x="10930" y="15151"/>
                      </a:cubicBezTo>
                      <a:cubicBezTo>
                        <a:pt x="11084" y="14588"/>
                        <a:pt x="10996" y="14050"/>
                        <a:pt x="10579" y="13718"/>
                      </a:cubicBezTo>
                      <a:cubicBezTo>
                        <a:pt x="10469" y="13308"/>
                        <a:pt x="10272" y="13129"/>
                        <a:pt x="9964" y="12899"/>
                      </a:cubicBezTo>
                      <a:cubicBezTo>
                        <a:pt x="9503" y="12080"/>
                        <a:pt x="10118" y="13078"/>
                        <a:pt x="9525" y="12387"/>
                      </a:cubicBezTo>
                      <a:cubicBezTo>
                        <a:pt x="9394" y="12233"/>
                        <a:pt x="9394" y="11926"/>
                        <a:pt x="9262" y="11773"/>
                      </a:cubicBezTo>
                      <a:cubicBezTo>
                        <a:pt x="9196" y="11696"/>
                        <a:pt x="9086" y="11696"/>
                        <a:pt x="8999" y="11670"/>
                      </a:cubicBezTo>
                      <a:cubicBezTo>
                        <a:pt x="8757" y="11389"/>
                        <a:pt x="8208" y="10954"/>
                        <a:pt x="8208" y="10954"/>
                      </a:cubicBezTo>
                      <a:cubicBezTo>
                        <a:pt x="7967" y="10519"/>
                        <a:pt x="7682" y="10160"/>
                        <a:pt x="7418" y="9725"/>
                      </a:cubicBezTo>
                      <a:cubicBezTo>
                        <a:pt x="7374" y="9623"/>
                        <a:pt x="7396" y="9495"/>
                        <a:pt x="7330" y="9418"/>
                      </a:cubicBezTo>
                      <a:cubicBezTo>
                        <a:pt x="7264" y="9341"/>
                        <a:pt x="7155" y="9341"/>
                        <a:pt x="7067" y="9316"/>
                      </a:cubicBezTo>
                      <a:cubicBezTo>
                        <a:pt x="6891" y="9930"/>
                        <a:pt x="7330" y="10135"/>
                        <a:pt x="7594" y="10544"/>
                      </a:cubicBezTo>
                      <a:cubicBezTo>
                        <a:pt x="7901" y="11005"/>
                        <a:pt x="7989" y="11363"/>
                        <a:pt x="8384" y="11670"/>
                      </a:cubicBezTo>
                      <a:cubicBezTo>
                        <a:pt x="8801" y="12413"/>
                        <a:pt x="8582" y="12105"/>
                        <a:pt x="8999" y="12592"/>
                      </a:cubicBezTo>
                      <a:cubicBezTo>
                        <a:pt x="9108" y="13001"/>
                        <a:pt x="9218" y="13180"/>
                        <a:pt x="9525" y="13411"/>
                      </a:cubicBezTo>
                      <a:cubicBezTo>
                        <a:pt x="9701" y="14025"/>
                        <a:pt x="9306" y="13590"/>
                        <a:pt x="9086" y="13411"/>
                      </a:cubicBezTo>
                      <a:cubicBezTo>
                        <a:pt x="8582" y="12540"/>
                        <a:pt x="9262" y="13564"/>
                        <a:pt x="8647" y="13001"/>
                      </a:cubicBezTo>
                      <a:cubicBezTo>
                        <a:pt x="8560" y="12924"/>
                        <a:pt x="8538" y="12771"/>
                        <a:pt x="8472" y="12694"/>
                      </a:cubicBezTo>
                      <a:cubicBezTo>
                        <a:pt x="8406" y="12617"/>
                        <a:pt x="8296" y="12566"/>
                        <a:pt x="8208" y="12489"/>
                      </a:cubicBezTo>
                      <a:cubicBezTo>
                        <a:pt x="8099" y="12080"/>
                        <a:pt x="7945" y="12003"/>
                        <a:pt x="7594" y="11875"/>
                      </a:cubicBezTo>
                      <a:cubicBezTo>
                        <a:pt x="7374" y="11517"/>
                        <a:pt x="7286" y="11389"/>
                        <a:pt x="7418" y="10954"/>
                      </a:cubicBezTo>
                      <a:cubicBezTo>
                        <a:pt x="7243" y="10647"/>
                        <a:pt x="6716" y="10237"/>
                        <a:pt x="6716" y="10237"/>
                      </a:cubicBezTo>
                      <a:cubicBezTo>
                        <a:pt x="6540" y="9930"/>
                        <a:pt x="6364" y="9623"/>
                        <a:pt x="6189" y="9316"/>
                      </a:cubicBezTo>
                      <a:cubicBezTo>
                        <a:pt x="6057" y="9085"/>
                        <a:pt x="5816" y="9009"/>
                        <a:pt x="5662" y="8804"/>
                      </a:cubicBezTo>
                      <a:cubicBezTo>
                        <a:pt x="5596" y="8702"/>
                        <a:pt x="5574" y="8574"/>
                        <a:pt x="5486" y="8497"/>
                      </a:cubicBezTo>
                      <a:cubicBezTo>
                        <a:pt x="5157" y="8241"/>
                        <a:pt x="4762" y="8241"/>
                        <a:pt x="4433" y="7985"/>
                      </a:cubicBezTo>
                      <a:cubicBezTo>
                        <a:pt x="4235" y="7627"/>
                        <a:pt x="4082" y="7396"/>
                        <a:pt x="3730" y="7268"/>
                      </a:cubicBezTo>
                      <a:cubicBezTo>
                        <a:pt x="3335" y="6603"/>
                        <a:pt x="4038" y="6270"/>
                        <a:pt x="3203" y="6040"/>
                      </a:cubicBezTo>
                      <a:cubicBezTo>
                        <a:pt x="2260" y="5298"/>
                        <a:pt x="2150" y="3762"/>
                        <a:pt x="1799" y="2559"/>
                      </a:cubicBezTo>
                      <a:cubicBezTo>
                        <a:pt x="1711" y="2252"/>
                        <a:pt x="1491" y="1817"/>
                        <a:pt x="1272" y="1638"/>
                      </a:cubicBezTo>
                      <a:cubicBezTo>
                        <a:pt x="1096" y="1485"/>
                        <a:pt x="745" y="1229"/>
                        <a:pt x="745" y="1229"/>
                      </a:cubicBezTo>
                      <a:cubicBezTo>
                        <a:pt x="679" y="1126"/>
                        <a:pt x="657" y="998"/>
                        <a:pt x="569" y="922"/>
                      </a:cubicBezTo>
                      <a:cubicBezTo>
                        <a:pt x="416" y="819"/>
                        <a:pt x="43" y="717"/>
                        <a:pt x="43" y="717"/>
                      </a:cubicBezTo>
                      <a:cubicBezTo>
                        <a:pt x="-177" y="-25"/>
                        <a:pt x="503" y="384"/>
                        <a:pt x="833" y="512"/>
                      </a:cubicBezTo>
                      <a:cubicBezTo>
                        <a:pt x="1250" y="1254"/>
                        <a:pt x="1162" y="998"/>
                        <a:pt x="1711" y="1433"/>
                      </a:cubicBezTo>
                      <a:cubicBezTo>
                        <a:pt x="1886" y="1740"/>
                        <a:pt x="1886" y="2329"/>
                        <a:pt x="2062" y="1740"/>
                      </a:cubicBezTo>
                      <a:cubicBezTo>
                        <a:pt x="1908" y="1203"/>
                        <a:pt x="1623" y="1536"/>
                        <a:pt x="1623" y="922"/>
                      </a:cubicBezTo>
                      <a:close/>
                      <a:moveTo>
                        <a:pt x="1623" y="9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9" name="Freeform 22"/>
                <p:cNvSpPr/>
                <p:nvPr/>
              </p:nvSpPr>
              <p:spPr>
                <a:xfrm>
                  <a:off x="4094640" y="498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4054" h="14065">
                      <a:moveTo>
                        <a:pt x="2457" y="5065"/>
                      </a:moveTo>
                      <a:cubicBezTo>
                        <a:pt x="13857" y="-7535"/>
                        <a:pt x="20457" y="6415"/>
                        <a:pt x="4857" y="14065"/>
                      </a:cubicBezTo>
                      <a:cubicBezTo>
                        <a:pt x="-1143" y="7765"/>
                        <a:pt x="-1143" y="10465"/>
                        <a:pt x="2457" y="5065"/>
                      </a:cubicBezTo>
                      <a:close/>
                      <a:moveTo>
                        <a:pt x="2457" y="506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0" name="Freeform 23"/>
                <p:cNvSpPr/>
                <p:nvPr/>
              </p:nvSpPr>
              <p:spPr>
                <a:xfrm>
                  <a:off x="4075560" y="48096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21600" h="15996">
                      <a:moveTo>
                        <a:pt x="0" y="2428"/>
                      </a:moveTo>
                      <a:cubicBezTo>
                        <a:pt x="2400" y="1844"/>
                        <a:pt x="4800" y="-491"/>
                        <a:pt x="7200" y="93"/>
                      </a:cubicBezTo>
                      <a:cubicBezTo>
                        <a:pt x="12600" y="1844"/>
                        <a:pt x="21600" y="9433"/>
                        <a:pt x="21600" y="9433"/>
                      </a:cubicBezTo>
                      <a:cubicBezTo>
                        <a:pt x="17400" y="21109"/>
                        <a:pt x="13200" y="14687"/>
                        <a:pt x="4800" y="9433"/>
                      </a:cubicBezTo>
                      <a:cubicBezTo>
                        <a:pt x="3000" y="7098"/>
                        <a:pt x="0" y="2428"/>
                        <a:pt x="0" y="2428"/>
                      </a:cubicBezTo>
                      <a:close/>
                      <a:moveTo>
                        <a:pt x="0" y="24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1" name="Freeform 24"/>
                <p:cNvSpPr/>
                <p:nvPr/>
              </p:nvSpPr>
              <p:spPr>
                <a:xfrm>
                  <a:off x="4845600" y="431640"/>
                  <a:ext cx="109440" cy="42840"/>
                </a:xfrm>
                <a:custGeom>
                  <a:avLst/>
                  <a:gdLst/>
                  <a:ahLst/>
                  <a:rect l="l" t="t" r="r" b="b"/>
                  <a:pathLst>
                    <a:path w="20548" h="17162">
                      <a:moveTo>
                        <a:pt x="0" y="9089"/>
                      </a:moveTo>
                      <a:cubicBezTo>
                        <a:pt x="635" y="5489"/>
                        <a:pt x="1525" y="4814"/>
                        <a:pt x="3558" y="3689"/>
                      </a:cubicBezTo>
                      <a:cubicBezTo>
                        <a:pt x="2541" y="-1936"/>
                        <a:pt x="5336" y="1664"/>
                        <a:pt x="7115" y="2789"/>
                      </a:cubicBezTo>
                      <a:cubicBezTo>
                        <a:pt x="7115" y="2789"/>
                        <a:pt x="9784" y="-586"/>
                        <a:pt x="10165" y="89"/>
                      </a:cubicBezTo>
                      <a:cubicBezTo>
                        <a:pt x="10800" y="1214"/>
                        <a:pt x="9021" y="3239"/>
                        <a:pt x="8132" y="3689"/>
                      </a:cubicBezTo>
                      <a:cubicBezTo>
                        <a:pt x="10419" y="6389"/>
                        <a:pt x="13087" y="7514"/>
                        <a:pt x="15755" y="9089"/>
                      </a:cubicBezTo>
                      <a:cubicBezTo>
                        <a:pt x="17280" y="9989"/>
                        <a:pt x="20329" y="12689"/>
                        <a:pt x="20329" y="12689"/>
                      </a:cubicBezTo>
                      <a:cubicBezTo>
                        <a:pt x="21600" y="19664"/>
                        <a:pt x="17026" y="16739"/>
                        <a:pt x="14739" y="15389"/>
                      </a:cubicBezTo>
                      <a:cubicBezTo>
                        <a:pt x="13849" y="10889"/>
                        <a:pt x="14739" y="12914"/>
                        <a:pt x="11181" y="10889"/>
                      </a:cubicBezTo>
                      <a:cubicBezTo>
                        <a:pt x="10673" y="10664"/>
                        <a:pt x="9656" y="9989"/>
                        <a:pt x="9656" y="9989"/>
                      </a:cubicBezTo>
                      <a:cubicBezTo>
                        <a:pt x="7242" y="5714"/>
                        <a:pt x="6734" y="6389"/>
                        <a:pt x="3049" y="7289"/>
                      </a:cubicBezTo>
                      <a:cubicBezTo>
                        <a:pt x="1144" y="9539"/>
                        <a:pt x="2160" y="9089"/>
                        <a:pt x="0" y="9089"/>
                      </a:cubicBezTo>
                      <a:close/>
                      <a:moveTo>
                        <a:pt x="0" y="90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2" name="Freeform 25"/>
                <p:cNvSpPr/>
                <p:nvPr/>
              </p:nvSpPr>
              <p:spPr>
                <a:xfrm>
                  <a:off x="4967640" y="471600"/>
                  <a:ext cx="84240" cy="23760"/>
                </a:xfrm>
                <a:custGeom>
                  <a:avLst/>
                  <a:gdLst/>
                  <a:ahLst/>
                  <a:rect l="l" t="t" r="r" b="b"/>
                  <a:pathLst>
                    <a:path w="19535" h="21600">
                      <a:moveTo>
                        <a:pt x="0" y="0"/>
                      </a:moveTo>
                      <a:cubicBezTo>
                        <a:pt x="2974" y="1473"/>
                        <a:pt x="5478" y="4909"/>
                        <a:pt x="8139" y="1964"/>
                      </a:cubicBezTo>
                      <a:cubicBezTo>
                        <a:pt x="13617" y="5400"/>
                        <a:pt x="9548" y="7364"/>
                        <a:pt x="13774" y="11782"/>
                      </a:cubicBezTo>
                      <a:cubicBezTo>
                        <a:pt x="15026" y="11291"/>
                        <a:pt x="16278" y="9327"/>
                        <a:pt x="17530" y="9818"/>
                      </a:cubicBezTo>
                      <a:cubicBezTo>
                        <a:pt x="21600" y="11291"/>
                        <a:pt x="18470" y="20127"/>
                        <a:pt x="16904" y="21600"/>
                      </a:cubicBezTo>
                      <a:cubicBezTo>
                        <a:pt x="12209" y="16691"/>
                        <a:pt x="14400" y="16691"/>
                        <a:pt x="10017" y="19636"/>
                      </a:cubicBezTo>
                      <a:cubicBezTo>
                        <a:pt x="6417" y="18164"/>
                        <a:pt x="3443" y="20127"/>
                        <a:pt x="0" y="17673"/>
                      </a:cubicBezTo>
                      <a:cubicBezTo>
                        <a:pt x="939" y="5400"/>
                        <a:pt x="1096" y="13255"/>
                        <a:pt x="4383" y="9818"/>
                      </a:cubicBezTo>
                      <a:cubicBezTo>
                        <a:pt x="2661" y="6382"/>
                        <a:pt x="0" y="6382"/>
                        <a:pt x="0" y="0"/>
                      </a:cubicBez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3" name="Freeform 26"/>
                <p:cNvSpPr/>
                <p:nvPr/>
              </p:nvSpPr>
              <p:spPr>
                <a:xfrm>
                  <a:off x="4924800" y="487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2677" h="11240">
                      <a:moveTo>
                        <a:pt x="2391" y="8694"/>
                      </a:moveTo>
                      <a:cubicBezTo>
                        <a:pt x="-4051" y="-4163"/>
                        <a:pt x="3907" y="466"/>
                        <a:pt x="9970" y="2523"/>
                      </a:cubicBezTo>
                      <a:cubicBezTo>
                        <a:pt x="17549" y="17437"/>
                        <a:pt x="7317" y="8694"/>
                        <a:pt x="2391" y="8694"/>
                      </a:cubicBezTo>
                      <a:close/>
                      <a:moveTo>
                        <a:pt x="2391" y="869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4" name="Freeform 27"/>
                <p:cNvSpPr/>
                <p:nvPr/>
              </p:nvSpPr>
              <p:spPr>
                <a:xfrm>
                  <a:off x="4897800" y="4158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10960" h="15340">
                      <a:moveTo>
                        <a:pt x="5506" y="13292"/>
                      </a:moveTo>
                      <a:cubicBezTo>
                        <a:pt x="2183" y="5815"/>
                        <a:pt x="-5017" y="5400"/>
                        <a:pt x="5506" y="0"/>
                      </a:cubicBezTo>
                      <a:cubicBezTo>
                        <a:pt x="7721" y="2077"/>
                        <a:pt x="16583" y="21600"/>
                        <a:pt x="5506" y="13292"/>
                      </a:cubicBezTo>
                      <a:close/>
                      <a:moveTo>
                        <a:pt x="5506" y="1329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5" name="Freeform 28"/>
                <p:cNvSpPr/>
                <p:nvPr/>
              </p:nvSpPr>
              <p:spPr>
                <a:xfrm>
                  <a:off x="5094720" y="5032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9487" h="19095">
                      <a:moveTo>
                        <a:pt x="1964" y="1262"/>
                      </a:moveTo>
                      <a:cubicBezTo>
                        <a:pt x="4418" y="3422"/>
                        <a:pt x="8836" y="5312"/>
                        <a:pt x="9818" y="7742"/>
                      </a:cubicBezTo>
                      <a:cubicBezTo>
                        <a:pt x="10309" y="9092"/>
                        <a:pt x="10309" y="10982"/>
                        <a:pt x="11782" y="12062"/>
                      </a:cubicBezTo>
                      <a:cubicBezTo>
                        <a:pt x="13255" y="12872"/>
                        <a:pt x="15709" y="12872"/>
                        <a:pt x="17673" y="13142"/>
                      </a:cubicBezTo>
                      <a:cubicBezTo>
                        <a:pt x="20127" y="17192"/>
                        <a:pt x="21600" y="20432"/>
                        <a:pt x="11782" y="18542"/>
                      </a:cubicBezTo>
                      <a:cubicBezTo>
                        <a:pt x="9327" y="13682"/>
                        <a:pt x="5400" y="8822"/>
                        <a:pt x="0" y="4502"/>
                      </a:cubicBezTo>
                      <a:cubicBezTo>
                        <a:pt x="1964" y="-88"/>
                        <a:pt x="1964" y="-1168"/>
                        <a:pt x="1964" y="1262"/>
                      </a:cubicBezTo>
                      <a:close/>
                      <a:moveTo>
                        <a:pt x="1964" y="126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6" name="Freeform 29"/>
                <p:cNvSpPr/>
                <p:nvPr/>
              </p:nvSpPr>
              <p:spPr>
                <a:xfrm>
                  <a:off x="4556520" y="176040"/>
                  <a:ext cx="322200" cy="63720"/>
                </a:xfrm>
                <a:custGeom>
                  <a:avLst/>
                  <a:gdLst/>
                  <a:ahLst/>
                  <a:rect l="l" t="t" r="r" b="b"/>
                  <a:pathLst>
                    <a:path w="21403" h="21263">
                      <a:moveTo>
                        <a:pt x="14646" y="338"/>
                      </a:moveTo>
                      <a:cubicBezTo>
                        <a:pt x="14312" y="4050"/>
                        <a:pt x="14980" y="5738"/>
                        <a:pt x="15382" y="2700"/>
                      </a:cubicBezTo>
                      <a:cubicBezTo>
                        <a:pt x="15649" y="0"/>
                        <a:pt x="15248" y="2363"/>
                        <a:pt x="15649" y="0"/>
                      </a:cubicBezTo>
                      <a:lnTo>
                        <a:pt x="17655" y="0"/>
                      </a:lnTo>
                      <a:cubicBezTo>
                        <a:pt x="18458" y="2025"/>
                        <a:pt x="18391" y="3713"/>
                        <a:pt x="19127" y="5738"/>
                      </a:cubicBezTo>
                      <a:cubicBezTo>
                        <a:pt x="20531" y="3713"/>
                        <a:pt x="19528" y="2363"/>
                        <a:pt x="21267" y="3375"/>
                      </a:cubicBezTo>
                      <a:cubicBezTo>
                        <a:pt x="21534" y="6413"/>
                        <a:pt x="21400" y="7425"/>
                        <a:pt x="20932" y="9788"/>
                      </a:cubicBezTo>
                      <a:cubicBezTo>
                        <a:pt x="20798" y="13163"/>
                        <a:pt x="20865" y="16875"/>
                        <a:pt x="19862" y="15525"/>
                      </a:cubicBezTo>
                      <a:cubicBezTo>
                        <a:pt x="19795" y="13500"/>
                        <a:pt x="19862" y="11475"/>
                        <a:pt x="19662" y="9788"/>
                      </a:cubicBezTo>
                      <a:cubicBezTo>
                        <a:pt x="19595" y="9113"/>
                        <a:pt x="19327" y="10463"/>
                        <a:pt x="19127" y="10463"/>
                      </a:cubicBezTo>
                      <a:cubicBezTo>
                        <a:pt x="18926" y="10463"/>
                        <a:pt x="18792" y="10125"/>
                        <a:pt x="18592" y="9788"/>
                      </a:cubicBezTo>
                      <a:cubicBezTo>
                        <a:pt x="18257" y="9113"/>
                        <a:pt x="17522" y="7088"/>
                        <a:pt x="17522" y="7088"/>
                      </a:cubicBezTo>
                      <a:cubicBezTo>
                        <a:pt x="16585" y="7763"/>
                        <a:pt x="16050" y="10463"/>
                        <a:pt x="15181" y="12825"/>
                      </a:cubicBezTo>
                      <a:cubicBezTo>
                        <a:pt x="14646" y="13838"/>
                        <a:pt x="13910" y="14175"/>
                        <a:pt x="13375" y="14850"/>
                      </a:cubicBezTo>
                      <a:cubicBezTo>
                        <a:pt x="12841" y="18225"/>
                        <a:pt x="13309" y="17888"/>
                        <a:pt x="14111" y="19238"/>
                      </a:cubicBezTo>
                      <a:cubicBezTo>
                        <a:pt x="13309" y="20925"/>
                        <a:pt x="13242" y="19238"/>
                        <a:pt x="12506" y="21263"/>
                      </a:cubicBezTo>
                      <a:cubicBezTo>
                        <a:pt x="12038" y="20925"/>
                        <a:pt x="11570" y="21600"/>
                        <a:pt x="11236" y="20588"/>
                      </a:cubicBezTo>
                      <a:cubicBezTo>
                        <a:pt x="11035" y="19913"/>
                        <a:pt x="11637" y="19913"/>
                        <a:pt x="11771" y="19238"/>
                      </a:cubicBezTo>
                      <a:cubicBezTo>
                        <a:pt x="12038" y="16200"/>
                        <a:pt x="9898" y="9450"/>
                        <a:pt x="11369" y="13500"/>
                      </a:cubicBezTo>
                      <a:cubicBezTo>
                        <a:pt x="12239" y="18563"/>
                        <a:pt x="12239" y="12150"/>
                        <a:pt x="11236" y="10463"/>
                      </a:cubicBezTo>
                      <a:cubicBezTo>
                        <a:pt x="11102" y="9113"/>
                        <a:pt x="11102" y="7425"/>
                        <a:pt x="10500" y="7763"/>
                      </a:cubicBezTo>
                      <a:cubicBezTo>
                        <a:pt x="10166" y="7763"/>
                        <a:pt x="9430" y="9113"/>
                        <a:pt x="9430" y="9113"/>
                      </a:cubicBezTo>
                      <a:cubicBezTo>
                        <a:pt x="9029" y="13163"/>
                        <a:pt x="9497" y="10463"/>
                        <a:pt x="8895" y="9113"/>
                      </a:cubicBezTo>
                      <a:cubicBezTo>
                        <a:pt x="8627" y="8438"/>
                        <a:pt x="8360" y="8438"/>
                        <a:pt x="8159" y="8438"/>
                      </a:cubicBezTo>
                      <a:cubicBezTo>
                        <a:pt x="7758" y="3713"/>
                        <a:pt x="6621" y="2025"/>
                        <a:pt x="5484" y="675"/>
                      </a:cubicBezTo>
                      <a:cubicBezTo>
                        <a:pt x="4615" y="1350"/>
                        <a:pt x="4548" y="3038"/>
                        <a:pt x="3880" y="4725"/>
                      </a:cubicBezTo>
                      <a:cubicBezTo>
                        <a:pt x="2943" y="4725"/>
                        <a:pt x="-66" y="4050"/>
                        <a:pt x="1" y="0"/>
                      </a:cubicBezTo>
                      <a:lnTo>
                        <a:pt x="14646" y="338"/>
                      </a:lnTo>
                      <a:close/>
                      <a:moveTo>
                        <a:pt x="14646" y="3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7" name="Freeform 30"/>
                <p:cNvSpPr/>
                <p:nvPr/>
              </p:nvSpPr>
              <p:spPr>
                <a:xfrm>
                  <a:off x="4291560" y="174600"/>
                  <a:ext cx="276120" cy="31680"/>
                </a:xfrm>
                <a:custGeom>
                  <a:avLst/>
                  <a:gdLst/>
                  <a:ahLst/>
                  <a:rect l="l" t="t" r="r" b="b"/>
                  <a:pathLst>
                    <a:path w="19726" h="21600">
                      <a:moveTo>
                        <a:pt x="5865" y="21600"/>
                      </a:moveTo>
                      <a:cubicBezTo>
                        <a:pt x="4281" y="13239"/>
                        <a:pt x="-1695" y="4181"/>
                        <a:pt x="465" y="697"/>
                      </a:cubicBezTo>
                      <a:lnTo>
                        <a:pt x="18825" y="0"/>
                      </a:lnTo>
                      <a:cubicBezTo>
                        <a:pt x="19617" y="2787"/>
                        <a:pt x="19905" y="3484"/>
                        <a:pt x="19617" y="9755"/>
                      </a:cubicBezTo>
                      <a:cubicBezTo>
                        <a:pt x="18825" y="7665"/>
                        <a:pt x="18177" y="11148"/>
                        <a:pt x="17313" y="11148"/>
                      </a:cubicBezTo>
                      <a:lnTo>
                        <a:pt x="5865" y="21600"/>
                      </a:lnTo>
                      <a:close/>
                      <a:moveTo>
                        <a:pt x="5865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8" name="Freeform 31"/>
                <p:cNvSpPr/>
                <p:nvPr/>
              </p:nvSpPr>
              <p:spPr>
                <a:xfrm>
                  <a:off x="3603600" y="22536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9" name="Freeform 32"/>
                <p:cNvSpPr/>
                <p:nvPr/>
              </p:nvSpPr>
              <p:spPr>
                <a:xfrm>
                  <a:off x="2826000" y="174600"/>
                  <a:ext cx="691920" cy="24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17" y="142"/>
                      </a:moveTo>
                      <a:lnTo>
                        <a:pt x="21600" y="0"/>
                      </a:lnTo>
                      <a:cubicBezTo>
                        <a:pt x="21303" y="2132"/>
                        <a:pt x="21253" y="5968"/>
                        <a:pt x="20609" y="7674"/>
                      </a:cubicBezTo>
                      <a:cubicBezTo>
                        <a:pt x="20312" y="8526"/>
                        <a:pt x="20064" y="8953"/>
                        <a:pt x="19668" y="9663"/>
                      </a:cubicBezTo>
                      <a:cubicBezTo>
                        <a:pt x="19618" y="9805"/>
                        <a:pt x="19420" y="9947"/>
                        <a:pt x="19420" y="9947"/>
                      </a:cubicBezTo>
                      <a:cubicBezTo>
                        <a:pt x="18677" y="8953"/>
                        <a:pt x="19073" y="9663"/>
                        <a:pt x="18578" y="10374"/>
                      </a:cubicBezTo>
                      <a:cubicBezTo>
                        <a:pt x="18380" y="11653"/>
                        <a:pt x="18380" y="11795"/>
                        <a:pt x="17884" y="12505"/>
                      </a:cubicBezTo>
                      <a:cubicBezTo>
                        <a:pt x="17785" y="13074"/>
                        <a:pt x="18033" y="13216"/>
                        <a:pt x="17934" y="14068"/>
                      </a:cubicBezTo>
                      <a:cubicBezTo>
                        <a:pt x="17983" y="14495"/>
                        <a:pt x="18033" y="14921"/>
                        <a:pt x="18033" y="15205"/>
                      </a:cubicBezTo>
                      <a:cubicBezTo>
                        <a:pt x="18083" y="15489"/>
                        <a:pt x="18132" y="15774"/>
                        <a:pt x="18132" y="16058"/>
                      </a:cubicBezTo>
                      <a:cubicBezTo>
                        <a:pt x="18083" y="16342"/>
                        <a:pt x="18033" y="17053"/>
                        <a:pt x="17934" y="17337"/>
                      </a:cubicBezTo>
                      <a:cubicBezTo>
                        <a:pt x="17785" y="17479"/>
                        <a:pt x="17538" y="16911"/>
                        <a:pt x="17389" y="17053"/>
                      </a:cubicBezTo>
                      <a:cubicBezTo>
                        <a:pt x="17191" y="18332"/>
                        <a:pt x="17439" y="18047"/>
                        <a:pt x="16943" y="18332"/>
                      </a:cubicBezTo>
                      <a:cubicBezTo>
                        <a:pt x="16844" y="17479"/>
                        <a:pt x="17092" y="15774"/>
                        <a:pt x="17191" y="14921"/>
                      </a:cubicBezTo>
                      <a:cubicBezTo>
                        <a:pt x="17191" y="14211"/>
                        <a:pt x="16745" y="14495"/>
                        <a:pt x="16745" y="14211"/>
                      </a:cubicBezTo>
                      <a:cubicBezTo>
                        <a:pt x="16745" y="13926"/>
                        <a:pt x="17042" y="13500"/>
                        <a:pt x="17042" y="13216"/>
                      </a:cubicBezTo>
                      <a:cubicBezTo>
                        <a:pt x="17042" y="13074"/>
                        <a:pt x="17042" y="12647"/>
                        <a:pt x="16943" y="12647"/>
                      </a:cubicBezTo>
                      <a:cubicBezTo>
                        <a:pt x="16794" y="12647"/>
                        <a:pt x="16051" y="13358"/>
                        <a:pt x="15853" y="13358"/>
                      </a:cubicBezTo>
                      <a:cubicBezTo>
                        <a:pt x="15705" y="12221"/>
                        <a:pt x="16250" y="12505"/>
                        <a:pt x="15705" y="12079"/>
                      </a:cubicBezTo>
                      <a:cubicBezTo>
                        <a:pt x="15407" y="12932"/>
                        <a:pt x="15160" y="13216"/>
                        <a:pt x="14714" y="13358"/>
                      </a:cubicBezTo>
                      <a:cubicBezTo>
                        <a:pt x="14862" y="14779"/>
                        <a:pt x="15209" y="14353"/>
                        <a:pt x="15853" y="14637"/>
                      </a:cubicBezTo>
                      <a:cubicBezTo>
                        <a:pt x="15754" y="15489"/>
                        <a:pt x="15407" y="15774"/>
                        <a:pt x="15110" y="16626"/>
                      </a:cubicBezTo>
                      <a:lnTo>
                        <a:pt x="15407" y="17905"/>
                      </a:lnTo>
                      <a:lnTo>
                        <a:pt x="15606" y="19611"/>
                      </a:lnTo>
                      <a:lnTo>
                        <a:pt x="15308" y="19753"/>
                      </a:lnTo>
                      <a:lnTo>
                        <a:pt x="15556" y="20463"/>
                      </a:lnTo>
                      <a:lnTo>
                        <a:pt x="15209" y="21600"/>
                      </a:lnTo>
                      <a:lnTo>
                        <a:pt x="0" y="21174"/>
                      </a:lnTo>
                      <a:lnTo>
                        <a:pt x="3617" y="142"/>
                      </a:lnTo>
                      <a:close/>
                      <a:moveTo>
                        <a:pt x="3617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0" name="Freeform 33"/>
                <p:cNvSpPr/>
                <p:nvPr/>
              </p:nvSpPr>
              <p:spPr>
                <a:xfrm>
                  <a:off x="3519720" y="16668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1" name="Freeform 34"/>
                <p:cNvSpPr/>
                <p:nvPr/>
              </p:nvSpPr>
              <p:spPr>
                <a:xfrm>
                  <a:off x="3500640" y="24300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2" name="Freeform 35"/>
                <p:cNvSpPr/>
                <p:nvPr/>
              </p:nvSpPr>
              <p:spPr>
                <a:xfrm>
                  <a:off x="3400560" y="2905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3" name="Freeform 36"/>
                <p:cNvSpPr/>
                <p:nvPr/>
              </p:nvSpPr>
              <p:spPr>
                <a:xfrm>
                  <a:off x="277344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4" name="Freeform 37"/>
                <p:cNvSpPr/>
                <p:nvPr/>
              </p:nvSpPr>
              <p:spPr>
                <a:xfrm>
                  <a:off x="287028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5" name="Freeform 38"/>
                <p:cNvSpPr/>
                <p:nvPr/>
              </p:nvSpPr>
              <p:spPr>
                <a:xfrm>
                  <a:off x="3292560" y="452520"/>
                  <a:ext cx="27000" cy="3636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6" name="Freeform 39"/>
                <p:cNvSpPr/>
                <p:nvPr/>
              </p:nvSpPr>
              <p:spPr>
                <a:xfrm>
                  <a:off x="1897200" y="282600"/>
                  <a:ext cx="684360" cy="56052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7" name="Freeform 40"/>
                <p:cNvSpPr/>
                <p:nvPr/>
              </p:nvSpPr>
              <p:spPr>
                <a:xfrm>
                  <a:off x="2163960" y="552600"/>
                  <a:ext cx="258840" cy="29196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8" name="Freeform 41"/>
                <p:cNvSpPr/>
                <p:nvPr/>
              </p:nvSpPr>
              <p:spPr>
                <a:xfrm>
                  <a:off x="2621160" y="7570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9" name="Freeform 42"/>
                <p:cNvSpPr/>
                <p:nvPr/>
              </p:nvSpPr>
              <p:spPr>
                <a:xfrm>
                  <a:off x="19846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0" name="Freeform 43"/>
                <p:cNvSpPr/>
                <p:nvPr/>
              </p:nvSpPr>
              <p:spPr>
                <a:xfrm>
                  <a:off x="2457720" y="204840"/>
                  <a:ext cx="4683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1" name="Freeform 44"/>
                <p:cNvSpPr/>
                <p:nvPr/>
              </p:nvSpPr>
              <p:spPr>
                <a:xfrm>
                  <a:off x="2138400" y="174600"/>
                  <a:ext cx="87480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2" name="Freeform 45"/>
                <p:cNvSpPr/>
                <p:nvPr/>
              </p:nvSpPr>
              <p:spPr>
                <a:xfrm>
                  <a:off x="2330640" y="23184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3" name="Freeform 46"/>
                <p:cNvSpPr/>
                <p:nvPr/>
              </p:nvSpPr>
              <p:spPr>
                <a:xfrm>
                  <a:off x="23068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4" name="Freeform 47"/>
                <p:cNvSpPr/>
                <p:nvPr/>
              </p:nvSpPr>
              <p:spPr>
                <a:xfrm>
                  <a:off x="2413080" y="318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5" name="Freeform 48"/>
                <p:cNvSpPr/>
                <p:nvPr/>
              </p:nvSpPr>
              <p:spPr>
                <a:xfrm>
                  <a:off x="2490840" y="3207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6" name="Freeform 49"/>
                <p:cNvSpPr/>
                <p:nvPr/>
              </p:nvSpPr>
              <p:spPr>
                <a:xfrm>
                  <a:off x="2260800" y="2556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497" name="Group 86"/>
              <p:cNvGrpSpPr/>
              <p:nvPr/>
            </p:nvGrpSpPr>
            <p:grpSpPr>
              <a:xfrm>
                <a:off x="6165000" y="165240"/>
                <a:ext cx="1764000" cy="681120"/>
                <a:chOff x="6165000" y="165240"/>
                <a:chExt cx="1764000" cy="681120"/>
              </a:xfrm>
            </p:grpSpPr>
            <p:sp>
              <p:nvSpPr>
                <p:cNvPr id="498" name="Freeform 51"/>
                <p:cNvSpPr/>
                <p:nvPr/>
              </p:nvSpPr>
              <p:spPr>
                <a:xfrm>
                  <a:off x="7908480" y="76212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9" name="Freeform 52"/>
                <p:cNvSpPr/>
                <p:nvPr/>
              </p:nvSpPr>
              <p:spPr>
                <a:xfrm>
                  <a:off x="7595640" y="79236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0" name="Freeform 53"/>
                <p:cNvSpPr/>
                <p:nvPr/>
              </p:nvSpPr>
              <p:spPr>
                <a:xfrm>
                  <a:off x="7546320" y="79056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1" name="Freeform 54"/>
                <p:cNvSpPr/>
                <p:nvPr/>
              </p:nvSpPr>
              <p:spPr>
                <a:xfrm>
                  <a:off x="7299000" y="652680"/>
                  <a:ext cx="237960" cy="14580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2" name="Freeform 55"/>
                <p:cNvSpPr/>
                <p:nvPr/>
              </p:nvSpPr>
              <p:spPr>
                <a:xfrm>
                  <a:off x="7443360" y="6429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3" name="Freeform 56"/>
                <p:cNvSpPr/>
                <p:nvPr/>
              </p:nvSpPr>
              <p:spPr>
                <a:xfrm>
                  <a:off x="754812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4" name="Freeform 57"/>
                <p:cNvSpPr/>
                <p:nvPr/>
              </p:nvSpPr>
              <p:spPr>
                <a:xfrm>
                  <a:off x="7543440" y="7178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5" name="Freeform 58"/>
                <p:cNvSpPr/>
                <p:nvPr/>
              </p:nvSpPr>
              <p:spPr>
                <a:xfrm>
                  <a:off x="7630560" y="6876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6" name="Freeform 59"/>
                <p:cNvSpPr/>
                <p:nvPr/>
              </p:nvSpPr>
              <p:spPr>
                <a:xfrm>
                  <a:off x="7637040" y="736920"/>
                  <a:ext cx="30240" cy="1080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7" name="Freeform 60"/>
                <p:cNvSpPr/>
                <p:nvPr/>
              </p:nvSpPr>
              <p:spPr>
                <a:xfrm>
                  <a:off x="7670160" y="7128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8" name="Freeform 61"/>
                <p:cNvSpPr/>
                <p:nvPr/>
              </p:nvSpPr>
              <p:spPr>
                <a:xfrm>
                  <a:off x="7679880" y="725760"/>
                  <a:ext cx="19368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9" name="Freeform 62"/>
                <p:cNvSpPr/>
                <p:nvPr/>
              </p:nvSpPr>
              <p:spPr>
                <a:xfrm>
                  <a:off x="7849800" y="73512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0" name="Freeform 63"/>
                <p:cNvSpPr/>
                <p:nvPr/>
              </p:nvSpPr>
              <p:spPr>
                <a:xfrm>
                  <a:off x="757512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1" name="Freeform 64"/>
                <p:cNvSpPr/>
                <p:nvPr/>
              </p:nvSpPr>
              <p:spPr>
                <a:xfrm>
                  <a:off x="7560720" y="52416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2" name="Freeform 65"/>
                <p:cNvSpPr/>
                <p:nvPr/>
              </p:nvSpPr>
              <p:spPr>
                <a:xfrm>
                  <a:off x="7576560" y="59076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3" name="Freeform 66"/>
                <p:cNvSpPr/>
                <p:nvPr/>
              </p:nvSpPr>
              <p:spPr>
                <a:xfrm>
                  <a:off x="7529040" y="5968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4" name="Freeform 67"/>
                <p:cNvSpPr/>
                <p:nvPr/>
              </p:nvSpPr>
              <p:spPr>
                <a:xfrm>
                  <a:off x="7870320" y="2257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5" name="Freeform 68"/>
                <p:cNvSpPr/>
                <p:nvPr/>
              </p:nvSpPr>
              <p:spPr>
                <a:xfrm>
                  <a:off x="7090920" y="174600"/>
                  <a:ext cx="695160" cy="24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00" y="142"/>
                      </a:moveTo>
                      <a:lnTo>
                        <a:pt x="21600" y="0"/>
                      </a:lnTo>
                      <a:cubicBezTo>
                        <a:pt x="21304" y="2132"/>
                        <a:pt x="21156" y="5968"/>
                        <a:pt x="20515" y="7674"/>
                      </a:cubicBezTo>
                      <a:cubicBezTo>
                        <a:pt x="20219" y="8526"/>
                        <a:pt x="19973" y="8953"/>
                        <a:pt x="19578" y="9663"/>
                      </a:cubicBezTo>
                      <a:cubicBezTo>
                        <a:pt x="19529" y="9805"/>
                        <a:pt x="19332" y="9947"/>
                        <a:pt x="19332" y="9947"/>
                      </a:cubicBezTo>
                      <a:cubicBezTo>
                        <a:pt x="18592" y="8953"/>
                        <a:pt x="18986" y="9663"/>
                        <a:pt x="18493" y="10374"/>
                      </a:cubicBezTo>
                      <a:cubicBezTo>
                        <a:pt x="18296" y="11653"/>
                        <a:pt x="18296" y="11795"/>
                        <a:pt x="17803" y="12505"/>
                      </a:cubicBezTo>
                      <a:cubicBezTo>
                        <a:pt x="17704" y="13074"/>
                        <a:pt x="17951" y="13216"/>
                        <a:pt x="17852" y="14068"/>
                      </a:cubicBezTo>
                      <a:cubicBezTo>
                        <a:pt x="17901" y="14495"/>
                        <a:pt x="17951" y="14921"/>
                        <a:pt x="17951" y="15205"/>
                      </a:cubicBezTo>
                      <a:cubicBezTo>
                        <a:pt x="18000" y="15489"/>
                        <a:pt x="18049" y="15774"/>
                        <a:pt x="18049" y="16058"/>
                      </a:cubicBezTo>
                      <a:cubicBezTo>
                        <a:pt x="18000" y="16342"/>
                        <a:pt x="17951" y="17053"/>
                        <a:pt x="17852" y="17337"/>
                      </a:cubicBezTo>
                      <a:cubicBezTo>
                        <a:pt x="17704" y="17479"/>
                        <a:pt x="17458" y="16911"/>
                        <a:pt x="17310" y="17053"/>
                      </a:cubicBezTo>
                      <a:cubicBezTo>
                        <a:pt x="17112" y="18332"/>
                        <a:pt x="17359" y="18047"/>
                        <a:pt x="16866" y="18332"/>
                      </a:cubicBezTo>
                      <a:cubicBezTo>
                        <a:pt x="16767" y="17479"/>
                        <a:pt x="17014" y="15774"/>
                        <a:pt x="17112" y="14921"/>
                      </a:cubicBezTo>
                      <a:cubicBezTo>
                        <a:pt x="17112" y="14211"/>
                        <a:pt x="16668" y="14495"/>
                        <a:pt x="16668" y="14211"/>
                      </a:cubicBezTo>
                      <a:cubicBezTo>
                        <a:pt x="16668" y="13926"/>
                        <a:pt x="16964" y="13500"/>
                        <a:pt x="16964" y="13216"/>
                      </a:cubicBezTo>
                      <a:cubicBezTo>
                        <a:pt x="16964" y="13074"/>
                        <a:pt x="16964" y="12647"/>
                        <a:pt x="16866" y="12647"/>
                      </a:cubicBezTo>
                      <a:cubicBezTo>
                        <a:pt x="16718" y="12647"/>
                        <a:pt x="15978" y="13358"/>
                        <a:pt x="15781" y="13358"/>
                      </a:cubicBezTo>
                      <a:cubicBezTo>
                        <a:pt x="15633" y="12221"/>
                        <a:pt x="16175" y="12505"/>
                        <a:pt x="15633" y="12079"/>
                      </a:cubicBezTo>
                      <a:cubicBezTo>
                        <a:pt x="15337" y="12932"/>
                        <a:pt x="15090" y="13216"/>
                        <a:pt x="14647" y="13358"/>
                      </a:cubicBezTo>
                      <a:cubicBezTo>
                        <a:pt x="14795" y="14779"/>
                        <a:pt x="15140" y="14353"/>
                        <a:pt x="15781" y="14637"/>
                      </a:cubicBezTo>
                      <a:cubicBezTo>
                        <a:pt x="15682" y="15489"/>
                        <a:pt x="15337" y="15774"/>
                        <a:pt x="15041" y="16626"/>
                      </a:cubicBezTo>
                      <a:lnTo>
                        <a:pt x="15337" y="17905"/>
                      </a:lnTo>
                      <a:lnTo>
                        <a:pt x="15534" y="19611"/>
                      </a:lnTo>
                      <a:lnTo>
                        <a:pt x="15238" y="19753"/>
                      </a:lnTo>
                      <a:lnTo>
                        <a:pt x="15485" y="20463"/>
                      </a:lnTo>
                      <a:lnTo>
                        <a:pt x="15140" y="21600"/>
                      </a:lnTo>
                      <a:lnTo>
                        <a:pt x="0" y="21174"/>
                      </a:lnTo>
                      <a:lnTo>
                        <a:pt x="3600" y="142"/>
                      </a:lnTo>
                      <a:close/>
                      <a:moveTo>
                        <a:pt x="3600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6" name="Freeform 69"/>
                <p:cNvSpPr/>
                <p:nvPr/>
              </p:nvSpPr>
              <p:spPr>
                <a:xfrm>
                  <a:off x="7787880" y="16524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7" name="Freeform 70"/>
                <p:cNvSpPr/>
                <p:nvPr/>
              </p:nvSpPr>
              <p:spPr>
                <a:xfrm>
                  <a:off x="7767000" y="243000"/>
                  <a:ext cx="9396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8" name="Freeform 71"/>
                <p:cNvSpPr/>
                <p:nvPr/>
              </p:nvSpPr>
              <p:spPr>
                <a:xfrm>
                  <a:off x="7667280" y="29052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9" name="Freeform 72"/>
                <p:cNvSpPr/>
                <p:nvPr/>
              </p:nvSpPr>
              <p:spPr>
                <a:xfrm>
                  <a:off x="703980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0" name="Freeform 73"/>
                <p:cNvSpPr/>
                <p:nvPr/>
              </p:nvSpPr>
              <p:spPr>
                <a:xfrm>
                  <a:off x="713844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1" name="Freeform 74"/>
                <p:cNvSpPr/>
                <p:nvPr/>
              </p:nvSpPr>
              <p:spPr>
                <a:xfrm>
                  <a:off x="7560720" y="4525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2" name="Freeform 75"/>
                <p:cNvSpPr/>
                <p:nvPr/>
              </p:nvSpPr>
              <p:spPr>
                <a:xfrm>
                  <a:off x="6165000" y="284400"/>
                  <a:ext cx="684360" cy="56016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3" name="Freeform 76"/>
                <p:cNvSpPr/>
                <p:nvPr/>
              </p:nvSpPr>
              <p:spPr>
                <a:xfrm>
                  <a:off x="6429960" y="554040"/>
                  <a:ext cx="25884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4" name="Freeform 77"/>
                <p:cNvSpPr/>
                <p:nvPr/>
              </p:nvSpPr>
              <p:spPr>
                <a:xfrm>
                  <a:off x="6888960" y="7574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5" name="Freeform 78"/>
                <p:cNvSpPr/>
                <p:nvPr/>
              </p:nvSpPr>
              <p:spPr>
                <a:xfrm>
                  <a:off x="62524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6" name="Freeform 79"/>
                <p:cNvSpPr/>
                <p:nvPr/>
              </p:nvSpPr>
              <p:spPr>
                <a:xfrm>
                  <a:off x="6725520" y="204840"/>
                  <a:ext cx="4665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7" name="Freeform 80"/>
                <p:cNvSpPr/>
                <p:nvPr/>
              </p:nvSpPr>
              <p:spPr>
                <a:xfrm>
                  <a:off x="6404760" y="174600"/>
                  <a:ext cx="87624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8" name="Freeform 81"/>
                <p:cNvSpPr/>
                <p:nvPr/>
              </p:nvSpPr>
              <p:spPr>
                <a:xfrm>
                  <a:off x="6598440" y="231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9" name="Freeform 82"/>
                <p:cNvSpPr/>
                <p:nvPr/>
              </p:nvSpPr>
              <p:spPr>
                <a:xfrm>
                  <a:off x="65746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30" name="Freeform 83"/>
                <p:cNvSpPr/>
                <p:nvPr/>
              </p:nvSpPr>
              <p:spPr>
                <a:xfrm>
                  <a:off x="6680880" y="3193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31" name="Freeform 84"/>
                <p:cNvSpPr/>
                <p:nvPr/>
              </p:nvSpPr>
              <p:spPr>
                <a:xfrm>
                  <a:off x="6757200" y="320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32" name="Freeform 85"/>
                <p:cNvSpPr/>
                <p:nvPr/>
              </p:nvSpPr>
              <p:spPr>
                <a:xfrm>
                  <a:off x="6528600" y="25560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533" name="Group 109"/>
            <p:cNvGrpSpPr/>
            <p:nvPr/>
          </p:nvGrpSpPr>
          <p:grpSpPr>
            <a:xfrm>
              <a:off x="1266840" y="176400"/>
              <a:ext cx="7464240" cy="663480"/>
              <a:chOff x="1266840" y="176400"/>
              <a:chExt cx="7464240" cy="663480"/>
            </a:xfrm>
          </p:grpSpPr>
          <p:sp>
            <p:nvSpPr>
              <p:cNvPr id="534" name="Line 88"/>
              <p:cNvSpPr/>
              <p:nvPr/>
            </p:nvSpPr>
            <p:spPr>
              <a:xfrm>
                <a:off x="1266840" y="527400"/>
                <a:ext cx="7464240" cy="14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5" name="Line 89"/>
              <p:cNvSpPr/>
              <p:nvPr/>
            </p:nvSpPr>
            <p:spPr>
              <a:xfrm>
                <a:off x="16282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6" name="Line 90"/>
              <p:cNvSpPr/>
              <p:nvPr/>
            </p:nvSpPr>
            <p:spPr>
              <a:xfrm>
                <a:off x="19904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7" name="Line 91"/>
              <p:cNvSpPr/>
              <p:nvPr/>
            </p:nvSpPr>
            <p:spPr>
              <a:xfrm>
                <a:off x="23522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8" name="Line 92"/>
              <p:cNvSpPr/>
              <p:nvPr/>
            </p:nvSpPr>
            <p:spPr>
              <a:xfrm>
                <a:off x="27144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9" name="Line 93"/>
              <p:cNvSpPr/>
              <p:nvPr/>
            </p:nvSpPr>
            <p:spPr>
              <a:xfrm>
                <a:off x="30762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0" name="Line 94"/>
              <p:cNvSpPr/>
              <p:nvPr/>
            </p:nvSpPr>
            <p:spPr>
              <a:xfrm>
                <a:off x="34383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1" name="Line 95"/>
              <p:cNvSpPr/>
              <p:nvPr/>
            </p:nvSpPr>
            <p:spPr>
              <a:xfrm>
                <a:off x="38001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2" name="Line 96"/>
              <p:cNvSpPr/>
              <p:nvPr/>
            </p:nvSpPr>
            <p:spPr>
              <a:xfrm>
                <a:off x="41619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3" name="Line 97"/>
              <p:cNvSpPr/>
              <p:nvPr/>
            </p:nvSpPr>
            <p:spPr>
              <a:xfrm>
                <a:off x="452412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4" name="Line 98"/>
              <p:cNvSpPr/>
              <p:nvPr/>
            </p:nvSpPr>
            <p:spPr>
              <a:xfrm>
                <a:off x="488592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5" name="Line 99"/>
              <p:cNvSpPr/>
              <p:nvPr/>
            </p:nvSpPr>
            <p:spPr>
              <a:xfrm>
                <a:off x="52480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Line 100"/>
              <p:cNvSpPr/>
              <p:nvPr/>
            </p:nvSpPr>
            <p:spPr>
              <a:xfrm>
                <a:off x="56098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Line 101"/>
              <p:cNvSpPr/>
              <p:nvPr/>
            </p:nvSpPr>
            <p:spPr>
              <a:xfrm>
                <a:off x="59716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8" name="Line 102"/>
              <p:cNvSpPr/>
              <p:nvPr/>
            </p:nvSpPr>
            <p:spPr>
              <a:xfrm>
                <a:off x="63338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9" name="Line 103"/>
              <p:cNvSpPr/>
              <p:nvPr/>
            </p:nvSpPr>
            <p:spPr>
              <a:xfrm>
                <a:off x="66956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Line 104"/>
              <p:cNvSpPr/>
              <p:nvPr/>
            </p:nvSpPr>
            <p:spPr>
              <a:xfrm>
                <a:off x="70578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Line 105"/>
              <p:cNvSpPr/>
              <p:nvPr/>
            </p:nvSpPr>
            <p:spPr>
              <a:xfrm>
                <a:off x="74196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Line 106"/>
              <p:cNvSpPr/>
              <p:nvPr/>
            </p:nvSpPr>
            <p:spPr>
              <a:xfrm>
                <a:off x="77817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3" name="Line 107"/>
              <p:cNvSpPr/>
              <p:nvPr/>
            </p:nvSpPr>
            <p:spPr>
              <a:xfrm>
                <a:off x="81435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Line 108"/>
              <p:cNvSpPr/>
              <p:nvPr/>
            </p:nvSpPr>
            <p:spPr>
              <a:xfrm>
                <a:off x="85053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5" name="Group 135"/>
            <p:cNvGrpSpPr/>
            <p:nvPr/>
          </p:nvGrpSpPr>
          <p:grpSpPr>
            <a:xfrm>
              <a:off x="1917720" y="172800"/>
              <a:ext cx="5865840" cy="671760"/>
              <a:chOff x="1917720" y="172800"/>
              <a:chExt cx="5865840" cy="671760"/>
            </a:xfrm>
          </p:grpSpPr>
          <p:sp>
            <p:nvSpPr>
              <p:cNvPr id="556" name="Line 110"/>
              <p:cNvSpPr/>
              <p:nvPr/>
            </p:nvSpPr>
            <p:spPr>
              <a:xfrm>
                <a:off x="4524480" y="174600"/>
                <a:ext cx="1440" cy="2257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7" name="Line 111"/>
              <p:cNvSpPr/>
              <p:nvPr/>
            </p:nvSpPr>
            <p:spPr>
              <a:xfrm>
                <a:off x="4718160" y="527040"/>
                <a:ext cx="1108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Line 112"/>
              <p:cNvSpPr/>
              <p:nvPr/>
            </p:nvSpPr>
            <p:spPr>
              <a:xfrm>
                <a:off x="4886280" y="555840"/>
                <a:ext cx="180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9" name="Line 113"/>
              <p:cNvSpPr/>
              <p:nvPr/>
            </p:nvSpPr>
            <p:spPr>
              <a:xfrm>
                <a:off x="5248440" y="714600"/>
                <a:ext cx="1440" cy="125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0" name="Line 114"/>
              <p:cNvSpPr/>
              <p:nvPr/>
            </p:nvSpPr>
            <p:spPr>
              <a:xfrm>
                <a:off x="6334200" y="352440"/>
                <a:ext cx="1440" cy="285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1" name="Line 115"/>
              <p:cNvSpPr/>
              <p:nvPr/>
            </p:nvSpPr>
            <p:spPr>
              <a:xfrm>
                <a:off x="618480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2" name="Line 116"/>
              <p:cNvSpPr/>
              <p:nvPr/>
            </p:nvSpPr>
            <p:spPr>
              <a:xfrm>
                <a:off x="6696000" y="374760"/>
                <a:ext cx="180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3" name="Line 117"/>
              <p:cNvSpPr/>
              <p:nvPr/>
            </p:nvSpPr>
            <p:spPr>
              <a:xfrm flipV="1">
                <a:off x="6699240" y="177480"/>
                <a:ext cx="1440" cy="79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4" name="Line 118"/>
              <p:cNvSpPr/>
              <p:nvPr/>
            </p:nvSpPr>
            <p:spPr>
              <a:xfrm flipV="1">
                <a:off x="7058160" y="174240"/>
                <a:ext cx="1440" cy="2890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5" name="Line 119"/>
              <p:cNvSpPr/>
              <p:nvPr/>
            </p:nvSpPr>
            <p:spPr>
              <a:xfrm flipH="1">
                <a:off x="7296120" y="527040"/>
                <a:ext cx="1238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6" name="Line 120"/>
              <p:cNvSpPr/>
              <p:nvPr/>
            </p:nvSpPr>
            <p:spPr>
              <a:xfrm flipH="1">
                <a:off x="7086240" y="527040"/>
                <a:ext cx="982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7" name="Line 121"/>
              <p:cNvSpPr/>
              <p:nvPr/>
            </p:nvSpPr>
            <p:spPr>
              <a:xfrm flipV="1">
                <a:off x="7419240" y="174240"/>
                <a:ext cx="1800" cy="4287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8" name="Line 122"/>
              <p:cNvSpPr/>
              <p:nvPr/>
            </p:nvSpPr>
            <p:spPr>
              <a:xfrm>
                <a:off x="7782120" y="746280"/>
                <a:ext cx="1440" cy="54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9" name="Line 123"/>
              <p:cNvSpPr/>
              <p:nvPr/>
            </p:nvSpPr>
            <p:spPr>
              <a:xfrm>
                <a:off x="3438720" y="181080"/>
                <a:ext cx="144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0" name="Line 124"/>
              <p:cNvSpPr/>
              <p:nvPr/>
            </p:nvSpPr>
            <p:spPr>
              <a:xfrm>
                <a:off x="3076560" y="176400"/>
                <a:ext cx="1800" cy="5349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1" name="Line 125"/>
              <p:cNvSpPr/>
              <p:nvPr/>
            </p:nvSpPr>
            <p:spPr>
              <a:xfrm flipH="1">
                <a:off x="3035160" y="527040"/>
                <a:ext cx="1080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2" name="Line 126"/>
              <p:cNvSpPr/>
              <p:nvPr/>
            </p:nvSpPr>
            <p:spPr>
              <a:xfrm>
                <a:off x="2822760" y="527040"/>
                <a:ext cx="950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3" name="Line 127"/>
              <p:cNvSpPr/>
              <p:nvPr/>
            </p:nvSpPr>
            <p:spPr>
              <a:xfrm flipH="1">
                <a:off x="2504880" y="527040"/>
                <a:ext cx="12996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4" name="Line 128"/>
              <p:cNvSpPr/>
              <p:nvPr/>
            </p:nvSpPr>
            <p:spPr>
              <a:xfrm>
                <a:off x="191772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5" name="Line 129"/>
              <p:cNvSpPr/>
              <p:nvPr/>
            </p:nvSpPr>
            <p:spPr>
              <a:xfrm>
                <a:off x="2349360" y="371520"/>
                <a:ext cx="1800" cy="473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6" name="Line 130"/>
              <p:cNvSpPr/>
              <p:nvPr/>
            </p:nvSpPr>
            <p:spPr>
              <a:xfrm>
                <a:off x="1990800" y="400320"/>
                <a:ext cx="1440" cy="247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7" name="Line 131"/>
              <p:cNvSpPr/>
              <p:nvPr/>
            </p:nvSpPr>
            <p:spPr>
              <a:xfrm flipH="1" flipV="1">
                <a:off x="2352240" y="172800"/>
                <a:ext cx="1800" cy="42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8" name="Line 132"/>
              <p:cNvSpPr/>
              <p:nvPr/>
            </p:nvSpPr>
            <p:spPr>
              <a:xfrm>
                <a:off x="2714760" y="285840"/>
                <a:ext cx="144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9" name="Line 133"/>
              <p:cNvSpPr/>
              <p:nvPr/>
            </p:nvSpPr>
            <p:spPr>
              <a:xfrm flipV="1">
                <a:off x="2714760" y="176040"/>
                <a:ext cx="1440" cy="3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0" name="Line 134"/>
              <p:cNvSpPr/>
              <p:nvPr/>
            </p:nvSpPr>
            <p:spPr>
              <a:xfrm>
                <a:off x="6777000" y="525600"/>
                <a:ext cx="127080" cy="14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6240" y="8701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                </a:t>
            </a:r>
            <a:r>
              <a:rPr b="0" lang="en-US" sz="4400" spc="-1" strike="noStrike">
                <a:solidFill>
                  <a:srgbClr val="262673"/>
                </a:solidFill>
                <a:latin typeface="Times New Roman Italic"/>
              </a:rPr>
              <a:t>Reincarnation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582" name="Rectangle 138"/>
          <p:cNvSpPr/>
          <p:nvPr/>
        </p:nvSpPr>
        <p:spPr>
          <a:xfrm>
            <a:off x="609480" y="2286000"/>
            <a:ext cx="8166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sara is the wheel of rebirth which means the soul is rebor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one life form to anothe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 may be reincarnated at a higher or lower level of existence depending on their karma from their present lif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 may be reborn as plants or animals or they may be elevated to a higher caste as a huma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th is not final for Hindus as they expect to be reborn many tim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3" name="Picture 139" descr=""/>
          <p:cNvPicPr/>
          <p:nvPr/>
        </p:nvPicPr>
        <p:blipFill>
          <a:blip r:embed="rId2"/>
          <a:stretch/>
        </p:blipFill>
        <p:spPr>
          <a:xfrm>
            <a:off x="6095880" y="1209600"/>
            <a:ext cx="129564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Summarizing &amp; Synthesiz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Diamonte Poem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6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left hand side of th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create a diamonte poem summarizing your information on Hindu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te poems are structured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opic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djective, Ad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ing word, -ing word, -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Four nouns - or - a short ph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noun, 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opic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Diamonte Poem Example: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254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, in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, investigating, 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izations,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6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iamonte poem needs to focus on the beliefs of Hindu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djective, Ad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ing word, -ing word, -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Four nouns - or - a short ph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noun, 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Italic"/>
                <a:ea typeface="Arial Italic"/>
              </a:rPr>
              <a:t>NOTE: Diamonte poems do not have to rhy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Summarizing &amp; Synthesiz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Diamonte Poem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0-30T15:18:44Z</dcterms:modified>
  <cp:revision>5</cp:revision>
  <dc:subject/>
  <dc:title>Bell Ringer:</dc:title>
</cp:coreProperties>
</file>